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760C-422A-4AAC-A419-7C406152E88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ヘッダー プレースホルダー 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79480"/>
                <a:tab algn="l" pos="1758960"/>
                <a:tab algn="l" pos="2638440"/>
                <a:tab algn="l" pos="3517920"/>
                <a:tab algn="l" pos="4397400"/>
                <a:tab algn="l" pos="5276880"/>
                <a:tab algn="l" pos="6156360"/>
                <a:tab algn="l" pos="7035840"/>
                <a:tab algn="l" pos="7915320"/>
                <a:tab algn="l" pos="8794800"/>
                <a:tab algn="l" pos="9674280"/>
                <a:tab algn="l" pos="10553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120210_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706-6B63-4E58-BD1B-92C830E8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A88C-7632-4BD4-AE92-80A86BEBD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8B07-F838-42AE-BF88-4ABF7C854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4F76-9E6A-44DF-9657-9E4B5430B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787-4079-446C-A0DE-FDE8BF17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2B63-3E2E-4322-B8BD-6521599C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D2E-CD8F-4858-A3F4-2D6BFBCC8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7385-5D2F-4BEF-9978-EC839A7D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6298-9877-4E3B-A24F-6EB948AC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42AD-4B58-492C-9E3B-C940879B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6E0D-EC7C-4D55-A571-C20A9356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594-6F49-48F1-BAF5-7757A020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3F25-ACAB-4D3A-8819-6EA325D9F436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4C95B-1399-4F33-AC95-6EA209B6AB5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724F-8A25-4B44-A362-84CC39436A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2"/>
          <p:cNvSpPr/>
          <p:nvPr/>
        </p:nvSpPr>
        <p:spPr>
          <a:xfrm>
            <a:off x="1187280" y="242100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プライチェーン情報基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国際連携のビジョン検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3"/>
          <p:cNvSpPr/>
          <p:nvPr/>
        </p:nvSpPr>
        <p:spPr>
          <a:xfrm>
            <a:off x="6516720" y="1159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国際連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12_4_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サプライチェーン情報基盤研究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864720"/>
            <a:ext cx="82296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目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我が国の企業が海外との取引、または海外への進出において、日本と対象国のサプライチェーン情報基盤の相互運用性を確保することにより、相互の企業にとってサプライチェーンの効率化を図り、日本を含む取引関係各国が形成する経済産業ネットワークの構築により、国際経済社会の成長を牽引することを目的とす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・  実施事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各国サプライチェーン情報基盤の相互運用性を確保するための国際標準化の推進（国連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EFACT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　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国際標準に基づく我が国サプライチェーン情報基盤の推進（国際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仕様の拡充と普及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国際標準に基づく各国サプライチェーン情報基盤の構築提案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ACT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および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NExT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具体的事例に基づくグローバルサプライチェーンのための情報連携システムの要件調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グローバルサプライチェーン管理のための情報連携のあり方研究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サプライチェーン情報基盤となる金流商流の情報連携基盤の検討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9640" y="3213000"/>
            <a:ext cx="8064720" cy="34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39640" y="1197000"/>
            <a:ext cx="8064720" cy="165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7711-E9D7-4360-8B16-345CFCB6950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テキスト ボックス 2"/>
          <p:cNvSpPr/>
          <p:nvPr/>
        </p:nvSpPr>
        <p:spPr>
          <a:xfrm>
            <a:off x="6084720" y="0"/>
            <a:ext cx="30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際連携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012-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 u="sng">
                <a:solidFill>
                  <a:srgbClr val="000000"/>
                </a:solidFill>
                <a:uFillTx/>
                <a:latin typeface="Calibri"/>
              </a:rPr>
              <a:t>今までに分かったこ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56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境を超えた企業間情報交換は企業グループ内（本社対現地子会社）で、社内ネットワークにより行われることが主流であり、国際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ニーズは多くはな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境を超えた物流においては、当該国における輸出入手続の電子化対応が必要。アジアの途上国におけるシングルウィンドウの整備、およびシングルウィンドウ間接続への期待は大きいと思え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アジア域内では、国連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SCAP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がアジア太平洋各国のシングルウィンドウ整備に本腰を上げた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現地企業における国内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は進んでいない。一部で大企業の現地子会社によ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型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が導入されてい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日本から進出の海外現地企業は、日本国内と同様の日系企業との取引が多く、日本国内の取引の仕組みを海外に移転することは容易と思え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内中小企業（製造業）は、固有技術を生かした試作品等の個別受注生産を得意としており、量産型を対象とした従来の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は向いていない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量産型製造は、海外現地企業に重点を移しつつある。よって、海外における量産を対象とし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は、費用対効果を享受できるはず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現地取引では、日本における融通のきいた取引はできない。受発注・請求支払は全て書面で確認して行われる。よって、電子化が容易と思われる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角丸四角形 15"/>
          <p:cNvSpPr/>
          <p:nvPr/>
        </p:nvSpPr>
        <p:spPr>
          <a:xfrm>
            <a:off x="971640" y="476280"/>
            <a:ext cx="7345440" cy="5832360"/>
          </a:xfrm>
          <a:prstGeom prst="roundRect">
            <a:avLst>
              <a:gd name="adj" fmla="val 16667"/>
            </a:avLst>
          </a:prstGeom>
          <a:solidFill>
            <a:srgbClr val="fc10da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角丸四角形 8"/>
          <p:cNvSpPr/>
          <p:nvPr/>
        </p:nvSpPr>
        <p:spPr>
          <a:xfrm>
            <a:off x="4997520" y="620640"/>
            <a:ext cx="2881080" cy="4680000"/>
          </a:xfrm>
          <a:custGeom>
            <a:avLst/>
            <a:gdLst>
              <a:gd name="textAreaLeft" fmla="*/ 140400 w 2881080"/>
              <a:gd name="textAreaRight" fmla="*/ 2740680 w 2881080"/>
              <a:gd name="textAreaTop" fmla="*/ 140400 h 4680000"/>
              <a:gd name="textAreaBottom" fmla="*/ 4539600 h 4680000"/>
            </a:gdLst>
            <a:ahLst/>
            <a:rect l="textAreaLeft" t="textAreaTop" r="textAreaRight" b="textAreaBottom"/>
            <a:pathLst>
              <a:path w="21600" h="35085">
                <a:moveTo>
                  <a:pt x="3600" y="0"/>
                </a:moveTo>
                <a:arcTo wR="3600" hR="3600" stAng="16200000" swAng="-5400000"/>
                <a:lnTo>
                  <a:pt x="0" y="31485"/>
                </a:lnTo>
                <a:arcTo wR="3600" hR="3600" stAng="10800000" swAng="-5400000"/>
                <a:lnTo>
                  <a:pt x="18000" y="350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角丸四角形 7"/>
          <p:cNvSpPr/>
          <p:nvPr/>
        </p:nvSpPr>
        <p:spPr>
          <a:xfrm>
            <a:off x="1332000" y="620640"/>
            <a:ext cx="2879640" cy="4680000"/>
          </a:xfrm>
          <a:custGeom>
            <a:avLst/>
            <a:gdLst>
              <a:gd name="textAreaLeft" fmla="*/ 140400 w 2879640"/>
              <a:gd name="textAreaRight" fmla="*/ 2739240 w 2879640"/>
              <a:gd name="textAreaTop" fmla="*/ 140400 h 4680000"/>
              <a:gd name="textAreaBottom" fmla="*/ 4539600 h 4680000"/>
            </a:gdLst>
            <a:ahLst/>
            <a:rect l="textAreaLeft" t="textAreaTop" r="textAreaRight" b="textAreaBottom"/>
            <a:pathLst>
              <a:path w="21600" h="35103">
                <a:moveTo>
                  <a:pt x="3600" y="0"/>
                </a:moveTo>
                <a:arcTo wR="3600" hR="3600" stAng="16200000" swAng="-5400000"/>
                <a:lnTo>
                  <a:pt x="0" y="31503"/>
                </a:lnTo>
                <a:arcTo wR="3600" hR="3600" stAng="10800000" swAng="-5400000"/>
                <a:lnTo>
                  <a:pt x="18000" y="351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>
              <a:alpha val="2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円/楕円 1"/>
          <p:cNvSpPr/>
          <p:nvPr/>
        </p:nvSpPr>
        <p:spPr>
          <a:xfrm>
            <a:off x="1608120" y="1413000"/>
            <a:ext cx="2305080" cy="1295280"/>
          </a:xfrm>
          <a:prstGeom prst="ellipse">
            <a:avLst/>
          </a:prstGeom>
          <a:solidFill>
            <a:srgbClr val="4f81bd">
              <a:alpha val="18000"/>
            </a:srgbClr>
          </a:solidFill>
          <a:ln w="507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基盤整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円/楕円 2"/>
          <p:cNvSpPr/>
          <p:nvPr/>
        </p:nvSpPr>
        <p:spPr>
          <a:xfrm>
            <a:off x="5286240" y="1413000"/>
            <a:ext cx="2303640" cy="1295280"/>
          </a:xfrm>
          <a:prstGeom prst="ellipse">
            <a:avLst/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アジア展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円/楕円 3"/>
          <p:cNvSpPr/>
          <p:nvPr/>
        </p:nvSpPr>
        <p:spPr>
          <a:xfrm>
            <a:off x="1608120" y="3789360"/>
            <a:ext cx="2305080" cy="1295280"/>
          </a:xfrm>
          <a:prstGeom prst="ellipse">
            <a:avLst/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ファイナン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サービ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提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円/楕円 5"/>
          <p:cNvSpPr/>
          <p:nvPr/>
        </p:nvSpPr>
        <p:spPr>
          <a:xfrm>
            <a:off x="5286240" y="3789360"/>
            <a:ext cx="2303640" cy="1295280"/>
          </a:xfrm>
          <a:prstGeom prst="ellipse">
            <a:avLst/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G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ファイナン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アジア展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円/楕円 10"/>
          <p:cNvSpPr/>
          <p:nvPr/>
        </p:nvSpPr>
        <p:spPr>
          <a:xfrm>
            <a:off x="3348000" y="2708280"/>
            <a:ext cx="2664000" cy="1081080"/>
          </a:xfrm>
          <a:prstGeom prst="ellipse">
            <a:avLst/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グローバ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メッセージン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基盤戦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左右矢印 11"/>
          <p:cNvSpPr/>
          <p:nvPr/>
        </p:nvSpPr>
        <p:spPr>
          <a:xfrm>
            <a:off x="3935520" y="1844640"/>
            <a:ext cx="1373040" cy="432000"/>
          </a:xfrm>
          <a:prstGeom prst="left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右矢印 12"/>
          <p:cNvSpPr/>
          <p:nvPr/>
        </p:nvSpPr>
        <p:spPr>
          <a:xfrm>
            <a:off x="3935520" y="4221000"/>
            <a:ext cx="1373040" cy="432000"/>
          </a:xfrm>
          <a:prstGeom prst="leftRightArrow">
            <a:avLst>
              <a:gd name="adj1" fmla="val 50000"/>
              <a:gd name="adj2" fmla="val 499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十字形 13"/>
          <p:cNvSpPr/>
          <p:nvPr/>
        </p:nvSpPr>
        <p:spPr>
          <a:xfrm>
            <a:off x="2484360" y="3014640"/>
            <a:ext cx="574920" cy="468360"/>
          </a:xfrm>
          <a:prstGeom prst="plus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十字形 14"/>
          <p:cNvSpPr/>
          <p:nvPr/>
        </p:nvSpPr>
        <p:spPr>
          <a:xfrm>
            <a:off x="6149880" y="2968560"/>
            <a:ext cx="576360" cy="468360"/>
          </a:xfrm>
          <a:prstGeom prst="plus">
            <a:avLst>
              <a:gd name="adj" fmla="val 25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16"/>
          <p:cNvSpPr/>
          <p:nvPr/>
        </p:nvSpPr>
        <p:spPr>
          <a:xfrm>
            <a:off x="2484360" y="55897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情報連携国際標準基盤整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17"/>
          <p:cNvSpPr/>
          <p:nvPr/>
        </p:nvSpPr>
        <p:spPr>
          <a:xfrm>
            <a:off x="1835280" y="83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日本国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18"/>
          <p:cNvSpPr/>
          <p:nvPr/>
        </p:nvSpPr>
        <p:spPr>
          <a:xfrm>
            <a:off x="5465880" y="836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海外（アジア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スライド番号プレースホルダー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4EF3-0927-4FF2-A701-8D909507984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角丸四角形吹き出し 6"/>
          <p:cNvSpPr/>
          <p:nvPr/>
        </p:nvSpPr>
        <p:spPr>
          <a:xfrm>
            <a:off x="7589880" y="620640"/>
            <a:ext cx="1303200" cy="792360"/>
          </a:xfrm>
          <a:prstGeom prst="wedgeRoundRectCallout">
            <a:avLst>
              <a:gd name="adj1" fmla="val -81884"/>
              <a:gd name="adj2" fmla="val 92689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現地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EDI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展開は容易かも知れな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角丸四角形吹き出し 18"/>
          <p:cNvSpPr/>
          <p:nvPr/>
        </p:nvSpPr>
        <p:spPr>
          <a:xfrm>
            <a:off x="4708440" y="4797360"/>
            <a:ext cx="1592280" cy="792360"/>
          </a:xfrm>
          <a:prstGeom prst="wedgeRoundRectCallout">
            <a:avLst>
              <a:gd name="adj1" fmla="val -72162"/>
              <a:gd name="adj2" fmla="val -99101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未だ未知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国内ニーズ掘り起しが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角丸四角形吹き出し 19"/>
          <p:cNvSpPr/>
          <p:nvPr/>
        </p:nvSpPr>
        <p:spPr>
          <a:xfrm>
            <a:off x="320760" y="1484280"/>
            <a:ext cx="1301760" cy="1093680"/>
          </a:xfrm>
          <a:prstGeom prst="wedgeRoundRectCallout">
            <a:avLst>
              <a:gd name="adj1" fmla="val 74708"/>
              <a:gd name="adj2" fmla="val -4986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業界横断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EDI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仕様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</a:rPr>
              <a:t>V2</a:t>
            </a: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の方向が見えていた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角丸四角形吹き出し 20"/>
          <p:cNvSpPr/>
          <p:nvPr/>
        </p:nvSpPr>
        <p:spPr>
          <a:xfrm>
            <a:off x="4067280" y="993600"/>
            <a:ext cx="1447560" cy="792360"/>
          </a:xfrm>
          <a:prstGeom prst="wedgeRoundRectCallout">
            <a:avLst>
              <a:gd name="adj1" fmla="val -25726"/>
              <a:gd name="adj2" fmla="val 177930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ニーズが見えない。戦略転換が必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角丸四角形吹き出し 21"/>
          <p:cNvSpPr/>
          <p:nvPr/>
        </p:nvSpPr>
        <p:spPr>
          <a:xfrm>
            <a:off x="833400" y="2878200"/>
            <a:ext cx="1301760" cy="792000"/>
          </a:xfrm>
          <a:prstGeom prst="wedgeRoundRectCallout">
            <a:avLst>
              <a:gd name="adj1" fmla="val 61749"/>
              <a:gd name="adj2" fmla="val -90222"/>
              <a:gd name="adj3" fmla="val 1666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中部で実証開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正方形/長方形 13"/>
          <p:cNvSpPr/>
          <p:nvPr/>
        </p:nvSpPr>
        <p:spPr>
          <a:xfrm>
            <a:off x="4983120" y="3840120"/>
            <a:ext cx="3384720" cy="1440000"/>
          </a:xfrm>
          <a:prstGeom prst="rect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正方形/長方形 12"/>
          <p:cNvSpPr/>
          <p:nvPr/>
        </p:nvSpPr>
        <p:spPr>
          <a:xfrm>
            <a:off x="1116000" y="3789360"/>
            <a:ext cx="3384720" cy="1440000"/>
          </a:xfrm>
          <a:prstGeom prst="rect">
            <a:avLst/>
          </a:prstGeom>
          <a:solidFill>
            <a:srgbClr val="4f81bd">
              <a:alpha val="4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フローチャート : 磁気ディスク 7"/>
          <p:cNvSpPr/>
          <p:nvPr/>
        </p:nvSpPr>
        <p:spPr>
          <a:xfrm>
            <a:off x="1908000" y="476280"/>
            <a:ext cx="5543640" cy="3097080"/>
          </a:xfrm>
          <a:prstGeom prst="flowChartMagneticDisk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フローチャート : 定義済み処理 1"/>
          <p:cNvSpPr/>
          <p:nvPr/>
        </p:nvSpPr>
        <p:spPr>
          <a:xfrm>
            <a:off x="3995640" y="2065320"/>
            <a:ext cx="1008000" cy="72864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サポイ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フローチャート : 定義済み処理 2"/>
          <p:cNvSpPr/>
          <p:nvPr/>
        </p:nvSpPr>
        <p:spPr>
          <a:xfrm>
            <a:off x="2421000" y="1420920"/>
            <a:ext cx="1511280" cy="100800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共通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フローチャート : 定義済み処理 3"/>
          <p:cNvSpPr/>
          <p:nvPr/>
        </p:nvSpPr>
        <p:spPr>
          <a:xfrm>
            <a:off x="5018040" y="2295360"/>
            <a:ext cx="871560" cy="66996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治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フローチャート : 定義済み処理 4"/>
          <p:cNvSpPr/>
          <p:nvPr/>
        </p:nvSpPr>
        <p:spPr>
          <a:xfrm>
            <a:off x="4273560" y="907920"/>
            <a:ext cx="1179360" cy="74304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当事者マスタ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フローチャート : 定義済み処理 5"/>
          <p:cNvSpPr/>
          <p:nvPr/>
        </p:nvSpPr>
        <p:spPr>
          <a:xfrm>
            <a:off x="5889600" y="2575080"/>
            <a:ext cx="973080" cy="74268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海外展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フローチャート : 定義済み処理 6"/>
          <p:cNvSpPr/>
          <p:nvPr/>
        </p:nvSpPr>
        <p:spPr>
          <a:xfrm>
            <a:off x="5808600" y="1230480"/>
            <a:ext cx="954000" cy="742680"/>
          </a:xfrm>
          <a:prstGeom prst="flowChartPredefinedProcess">
            <a:avLst/>
          </a:prstGeom>
          <a:noFill/>
          <a:ln w="381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口座情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フローチャート : せん孔テープ 8"/>
          <p:cNvSpPr/>
          <p:nvPr/>
        </p:nvSpPr>
        <p:spPr>
          <a:xfrm>
            <a:off x="1547640" y="4221000"/>
            <a:ext cx="1008360" cy="648000"/>
          </a:xfrm>
          <a:prstGeom prst="flowChartPunchedTap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ビジネスプロセ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フローチャート : せん孔テープ 9"/>
          <p:cNvSpPr/>
          <p:nvPr/>
        </p:nvSpPr>
        <p:spPr>
          <a:xfrm>
            <a:off x="5367240" y="4221000"/>
            <a:ext cx="1008000" cy="648000"/>
          </a:xfrm>
          <a:prstGeom prst="flowChartPunchedTap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ビジネスプロセ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フローチャート : 複数書類 10"/>
          <p:cNvSpPr/>
          <p:nvPr/>
        </p:nvSpPr>
        <p:spPr>
          <a:xfrm>
            <a:off x="3176640" y="4221000"/>
            <a:ext cx="963720" cy="792360"/>
          </a:xfrm>
          <a:prstGeom prst="flowChartMultidocumen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ッセ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フローチャート : 複数書類 11"/>
          <p:cNvSpPr/>
          <p:nvPr/>
        </p:nvSpPr>
        <p:spPr>
          <a:xfrm>
            <a:off x="6862680" y="4148280"/>
            <a:ext cx="963720" cy="792000"/>
          </a:xfrm>
          <a:prstGeom prst="flowChartMultidocumen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ッセー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"/>
          <p:cNvSpPr/>
          <p:nvPr/>
        </p:nvSpPr>
        <p:spPr>
          <a:xfrm>
            <a:off x="1111320" y="3789360"/>
            <a:ext cx="18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中小企業共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テキスト ボックス 15"/>
          <p:cNvSpPr/>
          <p:nvPr/>
        </p:nvSpPr>
        <p:spPr>
          <a:xfrm>
            <a:off x="4983120" y="3840120"/>
            <a:ext cx="23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自治体消費財調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フローチャート : 内部記憶 16"/>
          <p:cNvSpPr/>
          <p:nvPr/>
        </p:nvSpPr>
        <p:spPr>
          <a:xfrm>
            <a:off x="1793880" y="5732640"/>
            <a:ext cx="1008000" cy="720720"/>
          </a:xfrm>
          <a:prstGeom prst="flowChartInternalStorag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C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フレーム 17"/>
          <p:cNvSpPr/>
          <p:nvPr/>
        </p:nvSpPr>
        <p:spPr>
          <a:xfrm>
            <a:off x="4273560" y="5732640"/>
            <a:ext cx="1179360" cy="720720"/>
          </a:xfrm>
          <a:custGeom>
            <a:avLst/>
            <a:gdLst/>
            <a:ahLst/>
            <a:rect l="l" t="t" r="r" b="b"/>
            <a:pathLst>
              <a:path w="1179513" h="720725">
                <a:moveTo>
                  <a:pt x="0" y="0"/>
                </a:moveTo>
                <a:lnTo>
                  <a:pt x="1179513" y="0"/>
                </a:lnTo>
                <a:lnTo>
                  <a:pt x="1179513" y="720725"/>
                </a:lnTo>
                <a:lnTo>
                  <a:pt x="0" y="720725"/>
                </a:lnTo>
                <a:lnTo>
                  <a:pt x="0" y="0"/>
                </a:lnTo>
                <a:close/>
                <a:moveTo>
                  <a:pt x="90091" y="90091"/>
                </a:moveTo>
                <a:lnTo>
                  <a:pt x="90091" y="630634"/>
                </a:lnTo>
                <a:lnTo>
                  <a:pt x="1089422" y="630634"/>
                </a:lnTo>
                <a:lnTo>
                  <a:pt x="1089422" y="90091"/>
                </a:lnTo>
                <a:lnTo>
                  <a:pt x="90091" y="90091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8"/>
          <p:cNvSpPr/>
          <p:nvPr/>
        </p:nvSpPr>
        <p:spPr>
          <a:xfrm>
            <a:off x="4500720" y="590868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線矢印コネクタ 20"/>
          <p:cNvCxnSpPr/>
          <p:nvPr/>
        </p:nvCxnSpPr>
        <p:spPr>
          <a:xfrm flipH="1">
            <a:off x="2801520" y="5013360"/>
            <a:ext cx="691200" cy="720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99" name="直線矢印コネクタ 21"/>
          <p:cNvCxnSpPr/>
          <p:nvPr/>
        </p:nvCxnSpPr>
        <p:spPr>
          <a:xfrm>
            <a:off x="3657600" y="5013360"/>
            <a:ext cx="843840" cy="7200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0" name="直線矢印コネクタ 24"/>
          <p:cNvCxnSpPr/>
          <p:nvPr/>
        </p:nvCxnSpPr>
        <p:spPr>
          <a:xfrm>
            <a:off x="2556000" y="4615920"/>
            <a:ext cx="591120" cy="10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1" name="直線矢印コネクタ 27"/>
          <p:cNvCxnSpPr/>
          <p:nvPr/>
        </p:nvCxnSpPr>
        <p:spPr>
          <a:xfrm>
            <a:off x="6322680" y="4544640"/>
            <a:ext cx="592920" cy="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02" name="テキスト ボックス 28"/>
          <p:cNvSpPr/>
          <p:nvPr/>
        </p:nvSpPr>
        <p:spPr>
          <a:xfrm>
            <a:off x="2084400" y="59040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ライブラリ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下矢印 29"/>
          <p:cNvSpPr/>
          <p:nvPr/>
        </p:nvSpPr>
        <p:spPr>
          <a:xfrm>
            <a:off x="3301920" y="2984400"/>
            <a:ext cx="928800" cy="824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下矢印 30"/>
          <p:cNvSpPr/>
          <p:nvPr/>
        </p:nvSpPr>
        <p:spPr>
          <a:xfrm>
            <a:off x="5078520" y="3060720"/>
            <a:ext cx="928440" cy="8222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フローチャート : 書類 31"/>
          <p:cNvSpPr/>
          <p:nvPr/>
        </p:nvSpPr>
        <p:spPr>
          <a:xfrm>
            <a:off x="3179880" y="5732640"/>
            <a:ext cx="815760" cy="720720"/>
          </a:xfrm>
          <a:prstGeom prst="flowChartDocument">
            <a:avLst/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32"/>
          <p:cNvCxnSpPr>
            <a:stCxn id="91" idx="2"/>
            <a:endCxn id="105" idx="0"/>
          </p:cNvCxnSpPr>
          <p:nvPr/>
        </p:nvCxnSpPr>
        <p:spPr>
          <a:xfrm flipH="1">
            <a:off x="3587040" y="4983120"/>
            <a:ext cx="3960" cy="750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7" name="フローチャート : 磁気ディスク 35"/>
          <p:cNvSpPr/>
          <p:nvPr/>
        </p:nvSpPr>
        <p:spPr>
          <a:xfrm>
            <a:off x="395280" y="1230480"/>
            <a:ext cx="1152360" cy="1715760"/>
          </a:xfrm>
          <a:prstGeom prst="flowChartMagneticDisk">
            <a:avLst/>
          </a:prstGeom>
          <a:solidFill>
            <a:srgbClr val="fc10da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国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E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右矢印 36"/>
          <p:cNvSpPr/>
          <p:nvPr/>
        </p:nvSpPr>
        <p:spPr>
          <a:xfrm>
            <a:off x="1547640" y="1751040"/>
            <a:ext cx="360360" cy="704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10da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フローチャート : 磁気ディスク 37"/>
          <p:cNvSpPr/>
          <p:nvPr/>
        </p:nvSpPr>
        <p:spPr>
          <a:xfrm>
            <a:off x="7826400" y="1208160"/>
            <a:ext cx="1150920" cy="1714320"/>
          </a:xfrm>
          <a:prstGeom prst="flowChartMagneticDisk">
            <a:avLst/>
          </a:prstGeom>
          <a:solidFill>
            <a:srgbClr val="00b050">
              <a:alpha val="2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業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標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左矢印 38"/>
          <p:cNvSpPr/>
          <p:nvPr/>
        </p:nvSpPr>
        <p:spPr>
          <a:xfrm>
            <a:off x="7451640" y="1690560"/>
            <a:ext cx="374760" cy="7686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00b050">
              <a:alpha val="5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直線矢印コネクタ 40"/>
          <p:cNvCxnSpPr/>
          <p:nvPr/>
        </p:nvCxnSpPr>
        <p:spPr>
          <a:xfrm flipV="1">
            <a:off x="610920" y="2945880"/>
            <a:ext cx="1080" cy="156312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直線矢印コネクタ 41"/>
          <p:cNvCxnSpPr/>
          <p:nvPr/>
        </p:nvCxnSpPr>
        <p:spPr>
          <a:xfrm flipV="1">
            <a:off x="8675280" y="2906280"/>
            <a:ext cx="1080" cy="156456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3" name="直線コネクタ 43"/>
          <p:cNvSpPr/>
          <p:nvPr/>
        </p:nvSpPr>
        <p:spPr>
          <a:xfrm>
            <a:off x="611280" y="4508640"/>
            <a:ext cx="504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線コネクタ 47"/>
          <p:cNvSpPr/>
          <p:nvPr/>
        </p:nvSpPr>
        <p:spPr>
          <a:xfrm flipH="1">
            <a:off x="8402760" y="4470480"/>
            <a:ext cx="272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スライド番号プレースホルダー 1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A4D2-01F8-4D52-9AA9-6D24539225E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テキスト ボックス 14"/>
          <p:cNvSpPr/>
          <p:nvPr/>
        </p:nvSpPr>
        <p:spPr>
          <a:xfrm>
            <a:off x="1547640" y="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業界横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フレームワーク　概念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円/楕円 33"/>
          <p:cNvSpPr/>
          <p:nvPr/>
        </p:nvSpPr>
        <p:spPr>
          <a:xfrm>
            <a:off x="1619280" y="4995720"/>
            <a:ext cx="774720" cy="648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円/楕円 32"/>
          <p:cNvSpPr/>
          <p:nvPr/>
        </p:nvSpPr>
        <p:spPr>
          <a:xfrm>
            <a:off x="3924360" y="4014720"/>
            <a:ext cx="77292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円/楕円 24"/>
          <p:cNvSpPr/>
          <p:nvPr/>
        </p:nvSpPr>
        <p:spPr>
          <a:xfrm>
            <a:off x="1747800" y="3160800"/>
            <a:ext cx="77328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円/楕円 23"/>
          <p:cNvSpPr/>
          <p:nvPr/>
        </p:nvSpPr>
        <p:spPr>
          <a:xfrm>
            <a:off x="5651640" y="1521000"/>
            <a:ext cx="77472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円/楕円 5"/>
          <p:cNvSpPr/>
          <p:nvPr/>
        </p:nvSpPr>
        <p:spPr>
          <a:xfrm>
            <a:off x="8028000" y="1332000"/>
            <a:ext cx="485640" cy="51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円/楕円 4"/>
          <p:cNvSpPr/>
          <p:nvPr/>
        </p:nvSpPr>
        <p:spPr>
          <a:xfrm>
            <a:off x="7236000" y="1844640"/>
            <a:ext cx="79200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円/楕円 3"/>
          <p:cNvSpPr/>
          <p:nvPr/>
        </p:nvSpPr>
        <p:spPr>
          <a:xfrm>
            <a:off x="2754360" y="5877000"/>
            <a:ext cx="79056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円/楕円 2"/>
          <p:cNvSpPr/>
          <p:nvPr/>
        </p:nvSpPr>
        <p:spPr>
          <a:xfrm>
            <a:off x="1619280" y="3860640"/>
            <a:ext cx="792000" cy="7207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-3637080" y="-25560"/>
            <a:ext cx="12781080" cy="6623280"/>
          </a:xfrm>
          <a:prstGeom prst="rect">
            <a:avLst/>
          </a:prstGeom>
          <a:ln w="0">
            <a:noFill/>
          </a:ln>
        </p:spPr>
      </p:pic>
      <p:cxnSp>
        <p:nvCxnSpPr>
          <p:cNvPr id="126" name="直線矢印コネクタ 7"/>
          <p:cNvCxnSpPr/>
          <p:nvPr/>
        </p:nvCxnSpPr>
        <p:spPr>
          <a:xfrm flipV="1">
            <a:off x="7632360" y="1588320"/>
            <a:ext cx="639000" cy="61668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直線矢印コネクタ 10"/>
          <p:cNvCxnSpPr/>
          <p:nvPr/>
        </p:nvCxnSpPr>
        <p:spPr>
          <a:xfrm flipH="1">
            <a:off x="2016000" y="2205000"/>
            <a:ext cx="5220360" cy="20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8" name="直線矢印コネクタ 12"/>
          <p:cNvCxnSpPr/>
          <p:nvPr/>
        </p:nvCxnSpPr>
        <p:spPr>
          <a:xfrm flipH="1">
            <a:off x="3148920" y="2565360"/>
            <a:ext cx="4483800" cy="367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29" name="直線矢印コネクタ 17"/>
          <p:cNvCxnSpPr/>
          <p:nvPr/>
        </p:nvCxnSpPr>
        <p:spPr>
          <a:xfrm>
            <a:off x="2015640" y="4400640"/>
            <a:ext cx="1134360" cy="18374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0" name="円/楕円 22"/>
          <p:cNvSpPr/>
          <p:nvPr/>
        </p:nvSpPr>
        <p:spPr>
          <a:xfrm>
            <a:off x="3375000" y="1841400"/>
            <a:ext cx="773280" cy="647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直線矢印コネクタ 27"/>
          <p:cNvCxnSpPr/>
          <p:nvPr/>
        </p:nvCxnSpPr>
        <p:spPr>
          <a:xfrm>
            <a:off x="6039000" y="1841400"/>
            <a:ext cx="1342080" cy="32472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直線矢印コネクタ 28"/>
          <p:cNvCxnSpPr/>
          <p:nvPr/>
        </p:nvCxnSpPr>
        <p:spPr>
          <a:xfrm>
            <a:off x="3924000" y="2204640"/>
            <a:ext cx="3609000" cy="11340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3" name="直線矢印コネクタ 30"/>
          <p:cNvCxnSpPr/>
          <p:nvPr/>
        </p:nvCxnSpPr>
        <p:spPr>
          <a:xfrm flipV="1">
            <a:off x="2411280" y="2316960"/>
            <a:ext cx="5122080" cy="116748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4" name="直線矢印コネクタ 34"/>
          <p:cNvCxnSpPr/>
          <p:nvPr/>
        </p:nvCxnSpPr>
        <p:spPr>
          <a:xfrm flipV="1">
            <a:off x="2016000" y="2316960"/>
            <a:ext cx="5517360" cy="284076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5" name="直線矢印コネクタ 38"/>
          <p:cNvCxnSpPr/>
          <p:nvPr/>
        </p:nvCxnSpPr>
        <p:spPr>
          <a:xfrm flipV="1">
            <a:off x="4311720" y="2469960"/>
            <a:ext cx="3373920" cy="1869120"/>
          </a:xfrm>
          <a:prstGeom prst="straightConnector1">
            <a:avLst/>
          </a:prstGeom>
          <a:ln w="31680">
            <a:solidFill>
              <a:srgbClr val="4a7ebb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136" name="角丸四角形 40"/>
          <p:cNvSpPr/>
          <p:nvPr/>
        </p:nvSpPr>
        <p:spPr>
          <a:xfrm>
            <a:off x="5651640" y="4400640"/>
            <a:ext cx="1981080" cy="1044360"/>
          </a:xfrm>
          <a:prstGeom prst="roundRect">
            <a:avLst>
              <a:gd name="adj" fmla="val 16667"/>
            </a:avLst>
          </a:prstGeom>
          <a:solidFill>
            <a:srgbClr val="fc10da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ファイナン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の展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角丸四角形 41"/>
          <p:cNvSpPr/>
          <p:nvPr/>
        </p:nvSpPr>
        <p:spPr>
          <a:xfrm>
            <a:off x="6961320" y="3176640"/>
            <a:ext cx="1981080" cy="1044360"/>
          </a:xfrm>
          <a:prstGeom prst="roundRect">
            <a:avLst>
              <a:gd name="adj" fmla="val 16667"/>
            </a:avLst>
          </a:prstGeom>
          <a:solidFill>
            <a:srgbClr val="fc10da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メッセージン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基盤の共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角丸四角形 42"/>
          <p:cNvSpPr/>
          <p:nvPr/>
        </p:nvSpPr>
        <p:spPr>
          <a:xfrm>
            <a:off x="757080" y="1521000"/>
            <a:ext cx="1981440" cy="1044360"/>
          </a:xfrm>
          <a:prstGeom prst="roundRect">
            <a:avLst>
              <a:gd name="adj" fmla="val 16667"/>
            </a:avLst>
          </a:prstGeom>
          <a:solidFill>
            <a:srgbClr val="fc10da">
              <a:alpha val="3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仕様の相互参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スライド番号プレースホルダー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1354-CA62-4752-B3E8-FCF97E3F1E9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スライド番号プレースホルダー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63C1-42AA-470C-B751-8634C9B1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フローチャート : 磁気ディスク 2"/>
          <p:cNvSpPr/>
          <p:nvPr/>
        </p:nvSpPr>
        <p:spPr>
          <a:xfrm>
            <a:off x="971640" y="3357720"/>
            <a:ext cx="1871640" cy="136656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フローチャート : 磁気ディスク 5"/>
          <p:cNvSpPr/>
          <p:nvPr/>
        </p:nvSpPr>
        <p:spPr>
          <a:xfrm>
            <a:off x="6588000" y="3357720"/>
            <a:ext cx="1871640" cy="136656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フローチャート : 磁気ディスク 6"/>
          <p:cNvSpPr/>
          <p:nvPr/>
        </p:nvSpPr>
        <p:spPr>
          <a:xfrm>
            <a:off x="3780000" y="4878360"/>
            <a:ext cx="1871640" cy="1368360"/>
          </a:xfrm>
          <a:prstGeom prst="flowChartMagneticDisk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業界横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フローチャート : 直接アクセス記憶 7"/>
          <p:cNvSpPr/>
          <p:nvPr/>
        </p:nvSpPr>
        <p:spPr>
          <a:xfrm>
            <a:off x="3311640" y="1557360"/>
            <a:ext cx="2808000" cy="1079640"/>
          </a:xfrm>
          <a:prstGeom prst="flowChartMagneticDrum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ライブラ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登録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直線矢印コネクタ 9"/>
          <p:cNvCxnSpPr/>
          <p:nvPr/>
        </p:nvCxnSpPr>
        <p:spPr>
          <a:xfrm flipH="1">
            <a:off x="2699640" y="2637000"/>
            <a:ext cx="93564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直線矢印コネクタ 10"/>
          <p:cNvCxnSpPr/>
          <p:nvPr/>
        </p:nvCxnSpPr>
        <p:spPr>
          <a:xfrm>
            <a:off x="4716000" y="2637000"/>
            <a:ext cx="1080" cy="20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直線矢印コネクタ 11"/>
          <p:cNvCxnSpPr/>
          <p:nvPr/>
        </p:nvCxnSpPr>
        <p:spPr>
          <a:xfrm>
            <a:off x="5651280" y="2652840"/>
            <a:ext cx="937080" cy="721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テキスト ボックス 14"/>
          <p:cNvSpPr/>
          <p:nvPr/>
        </p:nvSpPr>
        <p:spPr>
          <a:xfrm>
            <a:off x="1908000" y="54936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AC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登録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3T00:31:09Z</dcterms:created>
  <dc:creator>sugamata1</dc:creator>
  <dc:description/>
  <dc:language>en-US</dc:language>
  <cp:lastModifiedBy>sugamata1</cp:lastModifiedBy>
  <dcterms:modified xsi:type="dcterms:W3CDTF">2012-11-14T05:07:17Z</dcterms:modified>
  <cp:revision>10</cp:revision>
  <dc:subject/>
  <dc:title>サプライチェーン情報基盤研究会</dc:title>
</cp:coreProperties>
</file>