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2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28.png" ContentType="image/png"/>
  <Override PartName="/ppt/media/image27.png" ContentType="image/png"/>
  <Override PartName="/ppt/media/image26.png" ContentType="image/png"/>
  <Override PartName="/ppt/media/image24.wmf" ContentType="image/x-wmf"/>
  <Override PartName="/ppt/media/image6.wmf" ContentType="image/x-wmf"/>
  <Override PartName="/ppt/media/image11.png" ContentType="image/png"/>
  <Override PartName="/ppt/media/image12.png" ContentType="image/png"/>
  <Override PartName="/ppt/media/image7.wmf" ContentType="image/x-wmf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32.png" ContentType="image/png"/>
  <Override PartName="/ppt/media/image5.wmf" ContentType="image/x-wmf"/>
  <Override PartName="/ppt/media/image10.png" ContentType="image/png"/>
  <Override PartName="/ppt/media/image35.png" ContentType="image/png"/>
  <Override PartName="/ppt/media/image4.wmf" ContentType="image/x-wmf"/>
  <Override PartName="/ppt/media/image3.wmf" ContentType="image/x-wmf"/>
  <Override PartName="/ppt/media/image25.wmf" ContentType="image/x-wmf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media/image2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AF25-C862-407B-A6D2-A2B7471E8DE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3E28-1DD0-4D2A-A566-DEE953E364B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951A-1AC8-4C3D-B018-509E1FE5F8B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524E-167B-4141-8668-60BC8EBF131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05A4-7BF4-495A-94EE-6A283E655DA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300F-F5FB-43FF-BCA6-8283E0F938A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671F-4905-4652-8FD3-A55D5B9BBAA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E22D-6C89-4AAB-B17A-CF91A628134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23FE-0D1D-4638-A698-3A4A2EC7944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8753-9CBA-4639-9D9F-E001BDA4AE5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D72D-7D74-45B0-A1F9-416C2BDF2D9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12F6-0190-453F-8937-AB24FDC820E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19B9-DD3A-4BE6-B517-007CE8E26EC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F580-B44E-4BB4-BDC6-F969ED80700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96E0-2B96-4068-959F-C10F786FA9E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2F65-B035-474D-9E80-35C5FCA5230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AD94-DA88-4044-B94C-9B0B3D065BC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745E-6274-40EA-9983-44EB5D91469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A8B3-8203-4C54-A53F-F4CABC00F1F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AD2F-6874-4A97-9559-4766EB51947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D10D-AED9-485E-80A2-5CDD5C0A7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4BFA-C940-4C48-9D61-8597815E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ACBB-A0CA-4217-83D0-DF1CC89FD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3958-19EA-48D2-B626-24FD4FB1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91B3-B021-4BDC-ACA5-B8C6D3B7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76E5-9D6C-48FE-88E1-0C936F78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3F85-B4BC-46F6-B943-7CC85917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F3F9-9156-4C13-931B-484CBFA3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D0A8-86A9-4035-A2F0-1575C5A6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978D-9BD9-453C-99CB-5CC1AF03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3FAD-ECA0-4EB2-9ACF-EE33B864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7B1A-F57E-4228-BDA1-854E4D5A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3D85-A4BA-4423-9CF1-AE2F04722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16000" y="206064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国際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DI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標準技術体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6000" y="260280"/>
            <a:ext cx="2951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国際連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12-1-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00000" y="0"/>
            <a:ext cx="7620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"/>
              </a:rPr>
              <a:t>Data Modeling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"/>
              </a:rPr>
              <a:t>(UN/CEFA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0920" y="1628640"/>
            <a:ext cx="5042160" cy="6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hering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0920" y="2852640"/>
            <a:ext cx="504216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 Requirement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24000" y="4221000"/>
            <a:ext cx="4969080" cy="6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 Specification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50920" y="5516640"/>
            <a:ext cx="504216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20000" y="2565360"/>
            <a:ext cx="1800000" cy="1297080"/>
          </a:xfrm>
          <a:prstGeom prst="leftArrowCallout">
            <a:avLst>
              <a:gd name="adj1" fmla="val 25002"/>
              <a:gd name="adj2" fmla="val 25000"/>
              <a:gd name="adj3" fmla="val 23129"/>
              <a:gd name="adj4" fmla="val 666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rmon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m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om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20000" y="5300640"/>
            <a:ext cx="1873080" cy="1297080"/>
          </a:xfrm>
          <a:prstGeom prst="leftArrowCallout">
            <a:avLst>
              <a:gd name="adj1" fmla="val 25002"/>
              <a:gd name="adj2" fmla="val 25000"/>
              <a:gd name="adj3" fmla="val 24068"/>
              <a:gd name="adj4" fmla="val 666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armon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3933720"/>
            <a:ext cx="1728720" cy="1224000"/>
          </a:xfrm>
          <a:prstGeom prst="rightArrowCallout">
            <a:avLst>
              <a:gd name="adj1" fmla="val 25002"/>
              <a:gd name="adj2" fmla="val 25000"/>
              <a:gd name="adj3" fmla="val 23539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rmon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1341360"/>
            <a:ext cx="1728720" cy="1224000"/>
          </a:xfrm>
          <a:prstGeom prst="rightArrowCallout">
            <a:avLst>
              <a:gd name="adj1" fmla="val 25002"/>
              <a:gd name="adj2" fmla="val 25000"/>
              <a:gd name="adj3" fmla="val 23539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ro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kehol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11640" y="2276640"/>
            <a:ext cx="720720" cy="57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11640" y="3573360"/>
            <a:ext cx="72072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4941720"/>
            <a:ext cx="72072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50920" y="0"/>
            <a:ext cx="860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"/>
              </a:rPr>
              <a:t>Business Requirement Specification (BRS-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5105520" cy="34592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987640" y="5013360"/>
            <a:ext cx="5908680" cy="1565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24000" y="8802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000000"/>
                </a:solidFill>
                <a:latin typeface="Times New Roman"/>
              </a:rPr>
              <a:t>Business Domain View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(Customs Domain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95640" y="465300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2860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usiness Process Use 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689440" cy="552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7" name=""/>
          <p:cNvSpPr/>
          <p:nvPr/>
        </p:nvSpPr>
        <p:spPr>
          <a:xfrm>
            <a:off x="1402560" y="764280"/>
            <a:ext cx="347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usiness Process Activity Diagr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0"/>
            <a:ext cx="860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"/>
              </a:rPr>
              <a:t>Business Requirement Specification (BRS-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547640" y="1125360"/>
            <a:ext cx="5924880" cy="52642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330560" y="83592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ceptual Data Mo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0920" y="0"/>
            <a:ext cx="860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"/>
              </a:rPr>
              <a:t>Business Requirement Specification (BRS-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424720" cy="49687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19320" y="1051560"/>
            <a:ext cx="50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ual Model (Schedule Calenda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2602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"/>
              </a:rPr>
              <a:t>Requirement Specification Mapping(RSM-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8136000" cy="51022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-182520" y="980280"/>
            <a:ext cx="51213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2920" rIns="90000" tIns="152280" bIns="38160" anchor="ctr">
            <a:spAutoFit/>
          </a:bodyPr>
          <a:p>
            <a:pPr lvl="2" marL="54144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nonical Model (Cost 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41440" indent="-1825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2602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"/>
              </a:rPr>
              <a:t>Requirement Specification Mapping(RSM-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95280" y="2602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"/>
              </a:rPr>
              <a:t>Data Modeling Technical Specif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9640" y="2421000"/>
            <a:ext cx="1656000" cy="115236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35280" y="2276640"/>
            <a:ext cx="1944720" cy="144144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2205000"/>
            <a:ext cx="1944720" cy="144144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659640" y="4365720"/>
            <a:ext cx="1944720" cy="144144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alo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48000" y="1844640"/>
            <a:ext cx="532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48000" y="184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675640" y="184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43640" y="609300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43640" y="566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820000" y="566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195280" y="2924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651280" y="292428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7667640" y="3715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4642920" y="501336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643280" y="371592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87280" y="429264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87280" y="3860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51280" y="3860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11280" y="249228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em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51640" y="256536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ri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32720" y="386064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00720" y="465300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d with Qua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067280" y="134136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ore Component Technical Specific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4000" y="429264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CBD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ore Component Business Document Assemb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88000" y="6093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T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ore Component Data Type Catalog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0880" y="53352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"/>
              </a:rPr>
              <a:t>Core Component Technical Spec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"/>
              </a:rPr>
              <a:t>(CCT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1201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1619280" y="279360"/>
            <a:ext cx="616896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438120" y="1782720"/>
            <a:ext cx="834696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144792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Designing Electronic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95680" y="2286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ESCAP / ECO TF Worksh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895480" y="2666880"/>
            <a:ext cx="3467160" cy="2114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53341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SIPS : Supplychain Information Platform Study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General Secretariat : Hisanao Sugsa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hsedi@attglobal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392040" y="1003320"/>
            <a:ext cx="852984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538200" y="1193760"/>
            <a:ext cx="831996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282600" y="652320"/>
            <a:ext cx="829944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341280" y="1436760"/>
            <a:ext cx="844236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409680" y="2381400"/>
            <a:ext cx="873432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1270080" y="298440"/>
            <a:ext cx="691812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690480" y="1477800"/>
            <a:ext cx="79437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1114560" y="298440"/>
            <a:ext cx="6757920" cy="63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189000"/>
            <a:ext cx="91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"/>
              </a:rPr>
              <a:t>Core Component Business Document Assemb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"/>
              </a:rPr>
              <a:t>(CCBDA -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1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6445080" cy="48290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403280" y="1483200"/>
            <a:ext cx="39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siness Message Struc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39640" y="2500200"/>
            <a:ext cx="8170920" cy="39531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23280" y="1556280"/>
            <a:ext cx="55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ssage Assembly Conceptual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189000"/>
            <a:ext cx="91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"/>
              </a:rPr>
              <a:t>Core Component Business Document Assemb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"/>
              </a:rPr>
              <a:t>(CCBDA -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295280" y="68580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1981080"/>
            <a:ext cx="7010280" cy="280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Data Model and Mess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Syntax Dependent Mess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Message Envel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3812760" y="2045880"/>
            <a:ext cx="3537360" cy="4485600"/>
            <a:chOff x="3812760" y="2045880"/>
            <a:chExt cx="3537360" cy="4485600"/>
          </a:xfrm>
        </p:grpSpPr>
        <p:sp>
          <p:nvSpPr>
            <p:cNvPr id="233" name=""/>
            <p:cNvSpPr/>
            <p:nvPr/>
          </p:nvSpPr>
          <p:spPr>
            <a:xfrm>
              <a:off x="3868920" y="2045880"/>
              <a:ext cx="2078640" cy="8488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58280" y="2152800"/>
              <a:ext cx="179676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Arial"/>
                  <a:ea typeface="ＭＳ 明朝"/>
                </a:rPr>
                <a:t>&lt;&lt;InformationEntity&gt;&gt;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Arial"/>
                  <a:ea typeface="ＭＳ 明朝"/>
                </a:rPr>
                <a:t>Message Assembl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12760" y="4094280"/>
              <a:ext cx="2078640" cy="7099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93120" y="4091400"/>
              <a:ext cx="16279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Arial"/>
                  <a:ea typeface="ＭＳ 明朝"/>
                </a:rPr>
                <a:t>&lt;&lt;InformationEntity&gt;&gt;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Arial"/>
                  <a:ea typeface="ＭＳ 明朝"/>
                </a:rPr>
                <a:t>Message Busines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Arial"/>
                  <a:ea typeface="ＭＳ 明朝"/>
                </a:rPr>
                <a:t>Information Ent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4206960" y="3092040"/>
              <a:ext cx="5760" cy="1021680"/>
            </a:xfrm>
            <a:prstGeom prst="line">
              <a:avLst/>
            </a:prstGeom>
            <a:ln w="64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4114800" y="3906360"/>
              <a:ext cx="181440" cy="189360"/>
              <a:chOff x="4114800" y="3906360"/>
              <a:chExt cx="181440" cy="189360"/>
            </a:xfrm>
          </p:grpSpPr>
          <p:sp>
            <p:nvSpPr>
              <p:cNvPr id="239" name=""/>
              <p:cNvSpPr/>
              <p:nvPr/>
            </p:nvSpPr>
            <p:spPr>
              <a:xfrm flipV="1">
                <a:off x="4214880" y="3906360"/>
                <a:ext cx="81360" cy="189360"/>
              </a:xfrm>
              <a:prstGeom prst="line">
                <a:avLst/>
              </a:prstGeom>
              <a:ln w="936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 flipV="1">
                <a:off x="4114800" y="3907080"/>
                <a:ext cx="97200" cy="181800"/>
              </a:xfrm>
              <a:prstGeom prst="line">
                <a:avLst/>
              </a:prstGeom>
              <a:ln w="936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 rot="5054400">
              <a:off x="4119120" y="2946960"/>
              <a:ext cx="176400" cy="103680"/>
            </a:xfrm>
            <a:custGeom>
              <a:avLst/>
              <a:gdLst/>
              <a:ahLst/>
              <a:rect l="l" t="t" r="r" b="b"/>
              <a:pathLst>
                <a:path w="180" h="106">
                  <a:moveTo>
                    <a:pt x="0" y="43"/>
                  </a:moveTo>
                  <a:lnTo>
                    <a:pt x="96" y="0"/>
                  </a:lnTo>
                  <a:lnTo>
                    <a:pt x="180" y="64"/>
                  </a:lnTo>
                  <a:lnTo>
                    <a:pt x="85" y="10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993366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27480" y="3381480"/>
              <a:ext cx="65736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明朝"/>
                </a:rPr>
                <a:t>ASM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5375520" y="3612240"/>
              <a:ext cx="1011240" cy="8280"/>
            </a:xfrm>
            <a:prstGeom prst="line">
              <a:avLst/>
            </a:prstGeom>
            <a:ln w="64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6390000" y="3618000"/>
              <a:ext cx="3960" cy="1437480"/>
            </a:xfrm>
            <a:prstGeom prst="line">
              <a:avLst/>
            </a:prstGeom>
            <a:ln w="64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5356800" y="5062320"/>
              <a:ext cx="1039320" cy="1080"/>
            </a:xfrm>
            <a:prstGeom prst="line">
              <a:avLst/>
            </a:prstGeom>
            <a:ln w="64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81800" y="4146120"/>
              <a:ext cx="8683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明朝"/>
                </a:rPr>
                <a:t>ASMBI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5364720" y="3612600"/>
              <a:ext cx="4680" cy="498960"/>
            </a:xfrm>
            <a:prstGeom prst="line">
              <a:avLst/>
            </a:prstGeom>
            <a:ln w="64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08320" y="3852720"/>
              <a:ext cx="31248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0..*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5054400">
              <a:off x="5267880" y="4849560"/>
              <a:ext cx="178560" cy="103680"/>
            </a:xfrm>
            <a:custGeom>
              <a:avLst/>
              <a:gdLst/>
              <a:ahLst/>
              <a:rect l="l" t="t" r="r" b="b"/>
              <a:pathLst>
                <a:path w="180" h="106">
                  <a:moveTo>
                    <a:pt x="0" y="43"/>
                  </a:moveTo>
                  <a:lnTo>
                    <a:pt x="96" y="0"/>
                  </a:lnTo>
                  <a:lnTo>
                    <a:pt x="180" y="64"/>
                  </a:lnTo>
                  <a:lnTo>
                    <a:pt x="85" y="10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993366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271120" y="3914640"/>
              <a:ext cx="183600" cy="189000"/>
              <a:chOff x="5271120" y="3914640"/>
              <a:chExt cx="183600" cy="189000"/>
            </a:xfrm>
          </p:grpSpPr>
          <p:sp>
            <p:nvSpPr>
              <p:cNvPr id="251" name=""/>
              <p:cNvSpPr/>
              <p:nvPr/>
            </p:nvSpPr>
            <p:spPr>
              <a:xfrm flipV="1">
                <a:off x="5372640" y="3914640"/>
                <a:ext cx="82080" cy="189000"/>
              </a:xfrm>
              <a:prstGeom prst="line">
                <a:avLst/>
              </a:prstGeom>
              <a:ln w="936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5271120" y="3914640"/>
                <a:ext cx="98280" cy="181440"/>
              </a:xfrm>
              <a:prstGeom prst="line">
                <a:avLst/>
              </a:prstGeom>
              <a:ln w="936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 flipV="1">
              <a:off x="5360040" y="4847760"/>
              <a:ext cx="11520" cy="215640"/>
            </a:xfrm>
            <a:prstGeom prst="line">
              <a:avLst/>
            </a:prstGeom>
            <a:ln w="64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65040" y="5684400"/>
              <a:ext cx="1661760" cy="4320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098240" y="5743800"/>
              <a:ext cx="143964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明朝"/>
                </a:rPr>
                <a:t>Aggregate Busines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明朝"/>
                </a:rPr>
                <a:t>Information Ent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0345200">
              <a:off x="4740120" y="5452560"/>
              <a:ext cx="156240" cy="223200"/>
            </a:xfrm>
            <a:custGeom>
              <a:avLst/>
              <a:gdLst/>
              <a:ahLst/>
              <a:rect l="l" t="t" r="r" b="b"/>
              <a:pathLst>
                <a:path w="67" h="96">
                  <a:moveTo>
                    <a:pt x="48" y="0"/>
                  </a:moveTo>
                  <a:lnTo>
                    <a:pt x="67" y="96"/>
                  </a:lnTo>
                  <a:lnTo>
                    <a:pt x="0" y="86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5363640" y="5411160"/>
              <a:ext cx="1010160" cy="5400"/>
            </a:xfrm>
            <a:prstGeom prst="line">
              <a:avLst/>
            </a:prstGeom>
            <a:ln w="64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flipV="1">
              <a:off x="6387480" y="5405400"/>
              <a:ext cx="5760" cy="1106280"/>
            </a:xfrm>
            <a:prstGeom prst="line">
              <a:avLst/>
            </a:prstGeom>
            <a:ln w="64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5358240" y="6530760"/>
              <a:ext cx="1038240" cy="720"/>
            </a:xfrm>
            <a:prstGeom prst="line">
              <a:avLst/>
            </a:prstGeom>
            <a:ln w="64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00520" y="5711760"/>
              <a:ext cx="52128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明朝"/>
                </a:rPr>
                <a:t>ASBI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5362920" y="5420160"/>
              <a:ext cx="6480" cy="256320"/>
            </a:xfrm>
            <a:prstGeom prst="line">
              <a:avLst/>
            </a:prstGeom>
            <a:ln w="64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07240" y="5445720"/>
              <a:ext cx="310680" cy="19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0..*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054400">
              <a:off x="5266800" y="6162480"/>
              <a:ext cx="178560" cy="101880"/>
            </a:xfrm>
            <a:custGeom>
              <a:avLst/>
              <a:gdLst/>
              <a:ahLst/>
              <a:rect l="l" t="t" r="r" b="b"/>
              <a:pathLst>
                <a:path w="180" h="106">
                  <a:moveTo>
                    <a:pt x="0" y="43"/>
                  </a:moveTo>
                  <a:lnTo>
                    <a:pt x="96" y="0"/>
                  </a:lnTo>
                  <a:lnTo>
                    <a:pt x="180" y="64"/>
                  </a:lnTo>
                  <a:lnTo>
                    <a:pt x="85" y="106"/>
                  </a:lnTo>
                  <a:lnTo>
                    <a:pt x="0" y="43"/>
                  </a:lnTo>
                  <a:close/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5269320" y="5479200"/>
              <a:ext cx="185400" cy="188280"/>
              <a:chOff x="5269320" y="5479200"/>
              <a:chExt cx="185400" cy="188280"/>
            </a:xfrm>
          </p:grpSpPr>
          <p:sp>
            <p:nvSpPr>
              <p:cNvPr id="265" name=""/>
              <p:cNvSpPr/>
              <p:nvPr/>
            </p:nvSpPr>
            <p:spPr>
              <a:xfrm flipV="1">
                <a:off x="5371560" y="5479200"/>
                <a:ext cx="83160" cy="188280"/>
              </a:xfrm>
              <a:prstGeom prst="line">
                <a:avLst/>
              </a:prstGeom>
              <a:ln w="936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flipV="1">
                <a:off x="5269320" y="5479200"/>
                <a:ext cx="99360" cy="180720"/>
              </a:xfrm>
              <a:prstGeom prst="line">
                <a:avLst/>
              </a:prstGeom>
              <a:ln w="936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 flipV="1">
              <a:off x="5358960" y="6274800"/>
              <a:ext cx="1080" cy="255240"/>
            </a:xfrm>
            <a:prstGeom prst="line">
              <a:avLst/>
            </a:prstGeom>
            <a:ln w="64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0345200">
              <a:off x="5856480" y="5190120"/>
              <a:ext cx="156240" cy="223200"/>
            </a:xfrm>
            <a:custGeom>
              <a:avLst/>
              <a:gdLst/>
              <a:ahLst/>
              <a:rect l="l" t="t" r="r" b="b"/>
              <a:pathLst>
                <a:path w="67" h="96">
                  <a:moveTo>
                    <a:pt x="48" y="0"/>
                  </a:moveTo>
                  <a:lnTo>
                    <a:pt x="67" y="96"/>
                  </a:lnTo>
                  <a:lnTo>
                    <a:pt x="0" y="86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flipV="1">
              <a:off x="4817880" y="4822560"/>
              <a:ext cx="720" cy="646920"/>
            </a:xfrm>
            <a:prstGeom prst="line">
              <a:avLst/>
            </a:prstGeom>
            <a:ln w="64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919480" y="5056200"/>
              <a:ext cx="1440" cy="133920"/>
            </a:xfrm>
            <a:prstGeom prst="line">
              <a:avLst/>
            </a:prstGeom>
            <a:ln w="64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37960" y="3852720"/>
              <a:ext cx="234720" cy="2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1..*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84360" y="1516320"/>
            <a:ext cx="30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CB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eptual Over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189000"/>
            <a:ext cx="91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"/>
              </a:rPr>
              <a:t>Core Component Business Document Assemb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"/>
              </a:rPr>
              <a:t>(CCBDA -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7208640" cy="635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0" y="474840"/>
            <a:ext cx="18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CCB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Metamodel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80880" y="5335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"/>
              </a:rPr>
              <a:t>Data Model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35280" y="2565360"/>
            <a:ext cx="2158920" cy="1727280"/>
          </a:xfrm>
          <a:prstGeom prst="flowChartMagneticDisk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4360" y="2565360"/>
            <a:ext cx="2158920" cy="1727280"/>
          </a:xfrm>
          <a:prstGeom prst="flowChartMagneticDisk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516720" y="2565360"/>
            <a:ext cx="2158920" cy="1727280"/>
          </a:xfrm>
          <a:prstGeom prst="flowChartMagneticDisk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95280" y="33336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"/>
              </a:rPr>
              <a:t>Core Component Library (CCL-C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42472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80880" y="5335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"/>
              </a:rPr>
              <a:t>Core Component Library (CCL-BI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829152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95280" y="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"/>
              </a:rPr>
              <a:t>Core Component Library (CCL-D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605800" cy="16383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203640" y="2670120"/>
            <a:ext cx="5664240" cy="38480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 flipH="1">
            <a:off x="6156000" y="2276640"/>
            <a:ext cx="1655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80880" y="2362320"/>
            <a:ext cx="8458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Design Syntax Dependent Mess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80880" y="5335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"/>
              </a:rPr>
              <a:t>XML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11280" y="1413000"/>
            <a:ext cx="1584360" cy="1152360"/>
          </a:xfrm>
          <a:prstGeom prst="flowChartDocumen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16360" y="2565360"/>
            <a:ext cx="1368360" cy="1079640"/>
          </a:xfrm>
          <a:prstGeom prst="flowChartInternalStorag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59280" y="3860640"/>
            <a:ext cx="1368360" cy="115272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093080" y="5157720"/>
            <a:ext cx="1511280" cy="1008000"/>
          </a:xfrm>
          <a:prstGeom prst="flowChartInputOutpu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2555280" y="1413720"/>
            <a:ext cx="792000" cy="1511280"/>
          </a:xfrm>
          <a:custGeom>
            <a:avLst/>
            <a:gdLst>
              <a:gd name="textAreaLeft" fmla="*/ 105840 w 792000"/>
              <a:gd name="textAreaRight" fmla="*/ 686160 w 792000"/>
              <a:gd name="textAreaTop" fmla="*/ 264240 h 1511280"/>
              <a:gd name="textAreaBottom" fmla="*/ 10958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4500000" y="2637720"/>
            <a:ext cx="792000" cy="1511280"/>
          </a:xfrm>
          <a:custGeom>
            <a:avLst/>
            <a:gdLst>
              <a:gd name="textAreaLeft" fmla="*/ 105840 w 792000"/>
              <a:gd name="textAreaRight" fmla="*/ 686160 w 792000"/>
              <a:gd name="textAreaTop" fmla="*/ 264240 h 1511280"/>
              <a:gd name="textAreaBottom" fmla="*/ 10958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6660360" y="4006080"/>
            <a:ext cx="792000" cy="1511280"/>
          </a:xfrm>
          <a:custGeom>
            <a:avLst/>
            <a:gdLst>
              <a:gd name="textAreaLeft" fmla="*/ 105840 w 792000"/>
              <a:gd name="textAreaRight" fmla="*/ 686160 w 792000"/>
              <a:gd name="textAreaTop" fmla="*/ 264240 h 1511280"/>
              <a:gd name="textAreaBottom" fmla="*/ 10958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24000" y="2602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"/>
              </a:rPr>
              <a:t>XML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179280" y="905040"/>
            <a:ext cx="873468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539640" y="138240"/>
            <a:ext cx="7242120" cy="67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24382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mplementation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61920" y="2165400"/>
            <a:ext cx="908208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884160" y="298440"/>
            <a:ext cx="772812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6330960" cy="56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326880" y="0"/>
            <a:ext cx="820116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276120" y="1138320"/>
            <a:ext cx="8210520" cy="51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103320" y="635040"/>
            <a:ext cx="8772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423720" y="2857680"/>
            <a:ext cx="8101080" cy="23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442800" y="2519280"/>
            <a:ext cx="83631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80880" y="236232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sign Message Envel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8170920" cy="39528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80880" y="5335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"/>
              </a:rPr>
              <a:t>Business Document Header (BD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59640" y="1484280"/>
            <a:ext cx="865080" cy="1081080"/>
          </a:xfrm>
          <a:prstGeom prst="downArrow">
            <a:avLst>
              <a:gd name="adj1" fmla="val 50000"/>
              <a:gd name="adj2" fmla="val 3124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971800" y="1447920"/>
            <a:ext cx="3276720" cy="4724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600200"/>
            <a:ext cx="251460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1600200"/>
            <a:ext cx="251460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295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10280" y="1295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2057400"/>
            <a:ext cx="175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est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057400"/>
            <a:ext cx="17528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i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F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2895480"/>
            <a:ext cx="1752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3505320"/>
            <a:ext cx="17528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F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3505320"/>
            <a:ext cx="175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iv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4572000"/>
            <a:ext cx="175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pa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419112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52480" y="525780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2666880"/>
            <a:ext cx="76320" cy="228600"/>
          </a:xfrm>
          <a:prstGeom prst="downArrow">
            <a:avLst>
              <a:gd name="adj1" fmla="val 50000"/>
              <a:gd name="adj2" fmla="val 7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86600" y="3276720"/>
            <a:ext cx="76320" cy="228600"/>
          </a:xfrm>
          <a:prstGeom prst="downArrow">
            <a:avLst>
              <a:gd name="adj1" fmla="val 50000"/>
              <a:gd name="adj2" fmla="val 7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95480" y="2209680"/>
            <a:ext cx="3353040" cy="381240"/>
          </a:xfrm>
          <a:prstGeom prst="rightArrow">
            <a:avLst>
              <a:gd name="adj1" fmla="val 50000"/>
              <a:gd name="adj2" fmla="val 2198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3581280"/>
            <a:ext cx="3276720" cy="304920"/>
          </a:xfrm>
          <a:prstGeom prst="leftArrow">
            <a:avLst>
              <a:gd name="adj1" fmla="val 50000"/>
              <a:gd name="adj2" fmla="val 268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38480" y="2590920"/>
            <a:ext cx="1067040" cy="60948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3886200"/>
            <a:ext cx="1066680" cy="60948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91120" y="1981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33526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914400"/>
            <a:ext cx="2743200" cy="533520"/>
          </a:xfrm>
          <a:prstGeom prst="wedgeRoundRectCallout">
            <a:avLst>
              <a:gd name="adj1" fmla="val -45138"/>
              <a:gd name="adj2" fmla="val 6993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6019920"/>
            <a:ext cx="3810240" cy="533160"/>
          </a:xfrm>
          <a:prstGeom prst="wedgeRoundRectCallout">
            <a:avLst>
              <a:gd name="adj1" fmla="val 45250"/>
              <a:gd name="adj2" fmla="val -33303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3049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"/>
              </a:rPr>
              <a:t>B2B Collabor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正方形/長方形 116"/>
          <p:cNvSpPr/>
          <p:nvPr/>
        </p:nvSpPr>
        <p:spPr>
          <a:xfrm>
            <a:off x="4210200" y="2639880"/>
            <a:ext cx="792000" cy="216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ＢＤＨ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正方形/長方形 117"/>
          <p:cNvSpPr/>
          <p:nvPr/>
        </p:nvSpPr>
        <p:spPr>
          <a:xfrm>
            <a:off x="4210200" y="2928960"/>
            <a:ext cx="792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ＳＢＤ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正方形/長方形 118"/>
          <p:cNvSpPr/>
          <p:nvPr/>
        </p:nvSpPr>
        <p:spPr>
          <a:xfrm>
            <a:off x="1979640" y="2639880"/>
            <a:ext cx="792000" cy="216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ＢＤＨ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正方形/長方形 120"/>
          <p:cNvSpPr/>
          <p:nvPr/>
        </p:nvSpPr>
        <p:spPr>
          <a:xfrm>
            <a:off x="1979640" y="2354400"/>
            <a:ext cx="792000" cy="2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0" anchor="ctr">
            <a:no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ＭＳＨ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正方形/長方形 121"/>
          <p:cNvSpPr/>
          <p:nvPr/>
        </p:nvSpPr>
        <p:spPr>
          <a:xfrm>
            <a:off x="6515280" y="2639880"/>
            <a:ext cx="792000" cy="216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ＢＤＨ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フリーフォーム 127"/>
          <p:cNvSpPr/>
          <p:nvPr/>
        </p:nvSpPr>
        <p:spPr>
          <a:xfrm>
            <a:off x="1517760" y="3664080"/>
            <a:ext cx="965160" cy="272880"/>
          </a:xfrm>
          <a:custGeom>
            <a:avLst/>
            <a:gdLst/>
            <a:ahLst/>
            <a:rect l="l" t="t" r="r" b="b"/>
            <a:pathLst>
              <a:path w="980501" h="343359">
                <a:moveTo>
                  <a:pt x="0" y="11017"/>
                </a:moveTo>
                <a:cubicBezTo>
                  <a:pt x="171679" y="177188"/>
                  <a:pt x="343359" y="343359"/>
                  <a:pt x="506776" y="341523"/>
                </a:cubicBezTo>
                <a:cubicBezTo>
                  <a:pt x="670193" y="339687"/>
                  <a:pt x="825347" y="169843"/>
                  <a:pt x="98050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フリーフォーム 128"/>
          <p:cNvSpPr/>
          <p:nvPr/>
        </p:nvSpPr>
        <p:spPr>
          <a:xfrm>
            <a:off x="3419640" y="3648240"/>
            <a:ext cx="965160" cy="215640"/>
          </a:xfrm>
          <a:custGeom>
            <a:avLst/>
            <a:gdLst/>
            <a:ahLst/>
            <a:rect l="l" t="t" r="r" b="b"/>
            <a:pathLst>
              <a:path w="980501" h="343359">
                <a:moveTo>
                  <a:pt x="0" y="11017"/>
                </a:moveTo>
                <a:cubicBezTo>
                  <a:pt x="171679" y="177188"/>
                  <a:pt x="343359" y="343359"/>
                  <a:pt x="506776" y="341523"/>
                </a:cubicBezTo>
                <a:cubicBezTo>
                  <a:pt x="670193" y="339687"/>
                  <a:pt x="825347" y="169843"/>
                  <a:pt x="98050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フリーフォーム 129"/>
          <p:cNvSpPr/>
          <p:nvPr/>
        </p:nvSpPr>
        <p:spPr>
          <a:xfrm>
            <a:off x="4821120" y="3652920"/>
            <a:ext cx="965160" cy="210960"/>
          </a:xfrm>
          <a:custGeom>
            <a:avLst/>
            <a:gdLst/>
            <a:ahLst/>
            <a:rect l="l" t="t" r="r" b="b"/>
            <a:pathLst>
              <a:path w="980501" h="343359">
                <a:moveTo>
                  <a:pt x="0" y="11017"/>
                </a:moveTo>
                <a:cubicBezTo>
                  <a:pt x="171679" y="177188"/>
                  <a:pt x="343359" y="343359"/>
                  <a:pt x="506776" y="341523"/>
                </a:cubicBezTo>
                <a:cubicBezTo>
                  <a:pt x="670193" y="339687"/>
                  <a:pt x="825347" y="169843"/>
                  <a:pt x="98050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フリーフォーム 130"/>
          <p:cNvSpPr/>
          <p:nvPr/>
        </p:nvSpPr>
        <p:spPr>
          <a:xfrm>
            <a:off x="6773760" y="3648240"/>
            <a:ext cx="965160" cy="215640"/>
          </a:xfrm>
          <a:custGeom>
            <a:avLst/>
            <a:gdLst/>
            <a:ahLst/>
            <a:rect l="l" t="t" r="r" b="b"/>
            <a:pathLst>
              <a:path w="980501" h="343359">
                <a:moveTo>
                  <a:pt x="0" y="11017"/>
                </a:moveTo>
                <a:cubicBezTo>
                  <a:pt x="171679" y="177188"/>
                  <a:pt x="343359" y="343359"/>
                  <a:pt x="506776" y="341523"/>
                </a:cubicBezTo>
                <a:cubicBezTo>
                  <a:pt x="670193" y="339687"/>
                  <a:pt x="825347" y="169843"/>
                  <a:pt x="98050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角丸四角形 131"/>
          <p:cNvSpPr/>
          <p:nvPr/>
        </p:nvSpPr>
        <p:spPr>
          <a:xfrm>
            <a:off x="4749840" y="3792600"/>
            <a:ext cx="107964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Transla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角丸四角形 132"/>
          <p:cNvSpPr/>
          <p:nvPr/>
        </p:nvSpPr>
        <p:spPr>
          <a:xfrm>
            <a:off x="1619280" y="3792600"/>
            <a:ext cx="107964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Message Bin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Transport  B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角丸四角形 134"/>
          <p:cNvSpPr/>
          <p:nvPr/>
        </p:nvSpPr>
        <p:spPr>
          <a:xfrm>
            <a:off x="393840" y="3792600"/>
            <a:ext cx="108108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From proprietary 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4" name="直線矢印コネクタ 135"/>
          <p:cNvCxnSpPr/>
          <p:nvPr/>
        </p:nvCxnSpPr>
        <p:spPr>
          <a:xfrm flipV="1">
            <a:off x="1114560" y="3647880"/>
            <a:ext cx="218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5" name="直線矢印コネクタ 136"/>
          <p:cNvCxnSpPr/>
          <p:nvPr/>
        </p:nvCxnSpPr>
        <p:spPr>
          <a:xfrm>
            <a:off x="7954920" y="3647880"/>
            <a:ext cx="21672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6" name="直線矢印コネクタ 141"/>
          <p:cNvCxnSpPr>
            <a:endCxn id="315" idx="1"/>
          </p:cNvCxnSpPr>
          <p:nvPr/>
        </p:nvCxnSpPr>
        <p:spPr>
          <a:xfrm flipV="1">
            <a:off x="1690200" y="2461320"/>
            <a:ext cx="289440" cy="288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327" name="直線矢印コネクタ 142"/>
          <p:cNvCxnSpPr>
            <a:endCxn id="314" idx="1"/>
          </p:cNvCxnSpPr>
          <p:nvPr/>
        </p:nvCxnSpPr>
        <p:spPr>
          <a:xfrm>
            <a:off x="1690200" y="2747520"/>
            <a:ext cx="28944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328" name="直線矢印コネクタ 143"/>
          <p:cNvCxnSpPr>
            <a:stCxn id="316" idx="3"/>
          </p:cNvCxnSpPr>
          <p:nvPr/>
        </p:nvCxnSpPr>
        <p:spPr>
          <a:xfrm>
            <a:off x="7306920" y="2747520"/>
            <a:ext cx="28944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329" name="直線矢印コネクタ 144"/>
          <p:cNvCxnSpPr>
            <a:stCxn id="330" idx="3"/>
            <a:endCxn id="331" idx="1"/>
          </p:cNvCxnSpPr>
          <p:nvPr/>
        </p:nvCxnSpPr>
        <p:spPr>
          <a:xfrm>
            <a:off x="1690200" y="328896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332" name="直線矢印コネクタ 147"/>
          <p:cNvCxnSpPr>
            <a:stCxn id="333" idx="3"/>
            <a:endCxn id="334" idx="1"/>
          </p:cNvCxnSpPr>
          <p:nvPr/>
        </p:nvCxnSpPr>
        <p:spPr>
          <a:xfrm>
            <a:off x="7307280" y="3289320"/>
            <a:ext cx="28800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335" name="正方形/長方形 153"/>
          <p:cNvSpPr/>
          <p:nvPr/>
        </p:nvSpPr>
        <p:spPr>
          <a:xfrm>
            <a:off x="322200" y="1703520"/>
            <a:ext cx="259236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［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Sender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］　　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正方形/長方形 154"/>
          <p:cNvSpPr/>
          <p:nvPr/>
        </p:nvSpPr>
        <p:spPr>
          <a:xfrm>
            <a:off x="6372360" y="1703520"/>
            <a:ext cx="259236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［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Receiver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］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正方形/長方形 157"/>
          <p:cNvSpPr/>
          <p:nvPr/>
        </p:nvSpPr>
        <p:spPr>
          <a:xfrm>
            <a:off x="1979640" y="2066760"/>
            <a:ext cx="792000" cy="21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0" anchor="ctr">
            <a:no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ＴＳＨ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正方形/長方形 158"/>
          <p:cNvSpPr/>
          <p:nvPr/>
        </p:nvSpPr>
        <p:spPr>
          <a:xfrm>
            <a:off x="6515280" y="2352600"/>
            <a:ext cx="792000" cy="21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0" anchor="ctr">
            <a:no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ＭＳＨ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正方形/長方形 159"/>
          <p:cNvSpPr/>
          <p:nvPr/>
        </p:nvSpPr>
        <p:spPr>
          <a:xfrm>
            <a:off x="6515280" y="2065320"/>
            <a:ext cx="792000" cy="2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0" anchor="ctr">
            <a:no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ＴＳＨ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フリーフォーム 160"/>
          <p:cNvSpPr/>
          <p:nvPr/>
        </p:nvSpPr>
        <p:spPr>
          <a:xfrm>
            <a:off x="1785960" y="2158920"/>
            <a:ext cx="193680" cy="338040"/>
          </a:xfrm>
          <a:custGeom>
            <a:avLst/>
            <a:gdLst/>
            <a:ahLst/>
            <a:rect l="l" t="t" r="r" b="b"/>
            <a:pathLst>
              <a:path w="193792" h="338667">
                <a:moveTo>
                  <a:pt x="182503" y="338667"/>
                </a:moveTo>
                <a:cubicBezTo>
                  <a:pt x="91251" y="287867"/>
                  <a:pt x="0" y="237067"/>
                  <a:pt x="1881" y="180623"/>
                </a:cubicBezTo>
                <a:cubicBezTo>
                  <a:pt x="3762" y="124179"/>
                  <a:pt x="98777" y="62089"/>
                  <a:pt x="19379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角丸四角形 162"/>
          <p:cNvSpPr/>
          <p:nvPr/>
        </p:nvSpPr>
        <p:spPr>
          <a:xfrm>
            <a:off x="6588000" y="3808440"/>
            <a:ext cx="107964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Message Bin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Transport  B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正方形/長方形 164"/>
          <p:cNvSpPr/>
          <p:nvPr/>
        </p:nvSpPr>
        <p:spPr>
          <a:xfrm>
            <a:off x="3059280" y="1703520"/>
            <a:ext cx="3097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［ＡＳＰ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or Clou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］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角丸四角形 165"/>
          <p:cNvSpPr/>
          <p:nvPr/>
        </p:nvSpPr>
        <p:spPr>
          <a:xfrm>
            <a:off x="3176640" y="3792600"/>
            <a:ext cx="107928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Message Serv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Transport Serv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正方形/長方形 166"/>
          <p:cNvSpPr/>
          <p:nvPr/>
        </p:nvSpPr>
        <p:spPr>
          <a:xfrm>
            <a:off x="3203640" y="2639880"/>
            <a:ext cx="792000" cy="216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ＢＤＨ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正方形/長方形 168"/>
          <p:cNvSpPr/>
          <p:nvPr/>
        </p:nvSpPr>
        <p:spPr>
          <a:xfrm>
            <a:off x="3203640" y="2354400"/>
            <a:ext cx="792000" cy="2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0" anchor="ctr">
            <a:no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ＭＳＨ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正方形/長方形 169"/>
          <p:cNvSpPr/>
          <p:nvPr/>
        </p:nvSpPr>
        <p:spPr>
          <a:xfrm>
            <a:off x="3203640" y="2066760"/>
            <a:ext cx="792000" cy="21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0" anchor="ctr">
            <a:no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ＴＳＨ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正方形/長方形 193"/>
          <p:cNvSpPr/>
          <p:nvPr/>
        </p:nvSpPr>
        <p:spPr>
          <a:xfrm>
            <a:off x="5219640" y="2639880"/>
            <a:ext cx="792360" cy="216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ＢＤＨ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正方形/長方形 195"/>
          <p:cNvSpPr/>
          <p:nvPr/>
        </p:nvSpPr>
        <p:spPr>
          <a:xfrm>
            <a:off x="5219640" y="235116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0" anchor="ctr">
            <a:no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ＭＳＨ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正方形/長方形 196"/>
          <p:cNvSpPr/>
          <p:nvPr/>
        </p:nvSpPr>
        <p:spPr>
          <a:xfrm>
            <a:off x="5219640" y="206388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0" anchor="ctr">
            <a:no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ＴＳＨ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角丸四角形 133"/>
          <p:cNvSpPr/>
          <p:nvPr/>
        </p:nvSpPr>
        <p:spPr>
          <a:xfrm>
            <a:off x="3419640" y="4057560"/>
            <a:ext cx="107928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Transla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角丸四角形 97"/>
          <p:cNvSpPr/>
          <p:nvPr/>
        </p:nvSpPr>
        <p:spPr>
          <a:xfrm>
            <a:off x="4932360" y="404640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Messag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直線矢印コネクタ 105"/>
          <p:cNvCxnSpPr>
            <a:stCxn id="337" idx="3"/>
            <a:endCxn id="346" idx="1"/>
          </p:cNvCxnSpPr>
          <p:nvPr/>
        </p:nvCxnSpPr>
        <p:spPr>
          <a:xfrm>
            <a:off x="2771640" y="2174400"/>
            <a:ext cx="43272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353" name="直線矢印コネクタ 113"/>
          <p:cNvCxnSpPr>
            <a:stCxn id="315" idx="3"/>
            <a:endCxn id="345" idx="1"/>
          </p:cNvCxnSpPr>
          <p:nvPr/>
        </p:nvCxnSpPr>
        <p:spPr>
          <a:xfrm>
            <a:off x="2771640" y="2461680"/>
            <a:ext cx="43272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354" name="直線矢印コネクタ 139"/>
          <p:cNvCxnSpPr>
            <a:stCxn id="314" idx="3"/>
            <a:endCxn id="344" idx="1"/>
          </p:cNvCxnSpPr>
          <p:nvPr/>
        </p:nvCxnSpPr>
        <p:spPr>
          <a:xfrm>
            <a:off x="2771640" y="2747520"/>
            <a:ext cx="43272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355" name="直線矢印コネクタ 146"/>
          <p:cNvCxnSpPr>
            <a:stCxn id="331" idx="3"/>
            <a:endCxn id="356" idx="1"/>
          </p:cNvCxnSpPr>
          <p:nvPr/>
        </p:nvCxnSpPr>
        <p:spPr>
          <a:xfrm>
            <a:off x="2771640" y="3289320"/>
            <a:ext cx="4327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357" name="直線矢印コネクタ 150"/>
          <p:cNvCxnSpPr>
            <a:stCxn id="349" idx="3"/>
            <a:endCxn id="339" idx="1"/>
          </p:cNvCxnSpPr>
          <p:nvPr/>
        </p:nvCxnSpPr>
        <p:spPr>
          <a:xfrm>
            <a:off x="6012000" y="2171520"/>
            <a:ext cx="50400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358" name="直線矢印コネクタ 151"/>
          <p:cNvCxnSpPr>
            <a:stCxn id="348" idx="3"/>
            <a:endCxn id="338" idx="1"/>
          </p:cNvCxnSpPr>
          <p:nvPr/>
        </p:nvCxnSpPr>
        <p:spPr>
          <a:xfrm>
            <a:off x="6012000" y="2458800"/>
            <a:ext cx="50400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359" name="直線矢印コネクタ 152"/>
          <p:cNvCxnSpPr>
            <a:stCxn id="347" idx="3"/>
            <a:endCxn id="316" idx="1"/>
          </p:cNvCxnSpPr>
          <p:nvPr/>
        </p:nvCxnSpPr>
        <p:spPr>
          <a:xfrm>
            <a:off x="6012000" y="2747520"/>
            <a:ext cx="50400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360" name="直線矢印コネクタ 155"/>
          <p:cNvCxnSpPr>
            <a:stCxn id="361" idx="3"/>
            <a:endCxn id="333" idx="1"/>
          </p:cNvCxnSpPr>
          <p:nvPr/>
        </p:nvCxnSpPr>
        <p:spPr>
          <a:xfrm>
            <a:off x="6012000" y="3289320"/>
            <a:ext cx="50400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362" name="直線矢印コネクタ 176"/>
          <p:cNvCxnSpPr>
            <a:stCxn id="344" idx="3"/>
            <a:endCxn id="312" idx="1"/>
          </p:cNvCxnSpPr>
          <p:nvPr/>
        </p:nvCxnSpPr>
        <p:spPr>
          <a:xfrm>
            <a:off x="3995640" y="2747520"/>
            <a:ext cx="21528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363" name="直線矢印コネクタ 179"/>
          <p:cNvCxnSpPr>
            <a:stCxn id="356" idx="3"/>
            <a:endCxn id="313" idx="1"/>
          </p:cNvCxnSpPr>
          <p:nvPr/>
        </p:nvCxnSpPr>
        <p:spPr>
          <a:xfrm flipV="1">
            <a:off x="3995640" y="3288600"/>
            <a:ext cx="2152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364" name="直線矢印コネクタ 182"/>
          <p:cNvCxnSpPr>
            <a:stCxn id="312" idx="3"/>
            <a:endCxn id="347" idx="1"/>
          </p:cNvCxnSpPr>
          <p:nvPr/>
        </p:nvCxnSpPr>
        <p:spPr>
          <a:xfrm>
            <a:off x="5002200" y="2747520"/>
            <a:ext cx="21816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365" name="直線矢印コネクタ 183"/>
          <p:cNvCxnSpPr>
            <a:stCxn id="313" idx="3"/>
            <a:endCxn id="361" idx="1"/>
          </p:cNvCxnSpPr>
          <p:nvPr/>
        </p:nvCxnSpPr>
        <p:spPr>
          <a:xfrm>
            <a:off x="5002200" y="3288960"/>
            <a:ext cx="2181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366" name="直線矢印コネクタ 189"/>
          <p:cNvCxnSpPr>
            <a:stCxn id="312" idx="3"/>
            <a:endCxn id="348" idx="1"/>
          </p:cNvCxnSpPr>
          <p:nvPr/>
        </p:nvCxnSpPr>
        <p:spPr>
          <a:xfrm flipV="1">
            <a:off x="5002200" y="2458800"/>
            <a:ext cx="218160" cy="289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367" name="フリーフォーム 192"/>
          <p:cNvSpPr/>
          <p:nvPr/>
        </p:nvSpPr>
        <p:spPr>
          <a:xfrm>
            <a:off x="5025960" y="2158920"/>
            <a:ext cx="193680" cy="338040"/>
          </a:xfrm>
          <a:custGeom>
            <a:avLst/>
            <a:gdLst/>
            <a:ahLst/>
            <a:rect l="l" t="t" r="r" b="b"/>
            <a:pathLst>
              <a:path w="193792" h="338667">
                <a:moveTo>
                  <a:pt x="182503" y="338667"/>
                </a:moveTo>
                <a:cubicBezTo>
                  <a:pt x="91251" y="287867"/>
                  <a:pt x="0" y="237067"/>
                  <a:pt x="1881" y="180623"/>
                </a:cubicBezTo>
                <a:cubicBezTo>
                  <a:pt x="3762" y="124179"/>
                  <a:pt x="98777" y="62089"/>
                  <a:pt x="19379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テキスト ボックス 42"/>
          <p:cNvSpPr/>
          <p:nvPr/>
        </p:nvSpPr>
        <p:spPr>
          <a:xfrm>
            <a:off x="4325400" y="2449440"/>
            <a:ext cx="567360" cy="1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Calibri"/>
                <a:ea typeface="HG創英角ｺﾞｼｯｸUB"/>
              </a:rPr>
              <a:t>ＸＭＬ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HG創英角ｺﾞｼｯｸUB"/>
              </a:rPr>
              <a:t>synt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テキスト ボックス 43"/>
          <p:cNvSpPr/>
          <p:nvPr/>
        </p:nvSpPr>
        <p:spPr>
          <a:xfrm>
            <a:off x="0" y="990720"/>
            <a:ext cx="8991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HG創英角ｺﾞｼｯｸUB"/>
              </a:rPr>
              <a:t>■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HG創英角ｺﾞｼｯｸUB"/>
              </a:rPr>
              <a:t>An example of realization of interoperability with BD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正方形/長方形 202"/>
          <p:cNvSpPr/>
          <p:nvPr/>
        </p:nvSpPr>
        <p:spPr>
          <a:xfrm>
            <a:off x="898560" y="2928960"/>
            <a:ext cx="79200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02020"/>
                </a:solidFill>
                <a:latin typeface="Arial"/>
                <a:ea typeface="HGP創英角ｺﾞｼｯｸUB"/>
              </a:rPr>
              <a:t>Propriet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02020"/>
                </a:solidFill>
                <a:latin typeface="Arial"/>
                <a:ea typeface="HGP創英角ｺﾞｼｯｸUB"/>
              </a:rPr>
              <a:t>Ｂ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正方形/長方形 203"/>
          <p:cNvSpPr/>
          <p:nvPr/>
        </p:nvSpPr>
        <p:spPr>
          <a:xfrm>
            <a:off x="1979640" y="2928960"/>
            <a:ext cx="79200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02020"/>
                </a:solidFill>
                <a:latin typeface="Arial"/>
                <a:ea typeface="HGP創英角ｺﾞｼｯｸUB"/>
              </a:rPr>
              <a:t>Propriet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02020"/>
                </a:solidFill>
                <a:latin typeface="Arial"/>
                <a:ea typeface="HGP創英角ｺﾞｼｯｸUB"/>
              </a:rPr>
              <a:t>Ｂ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正方形/長方形 204"/>
          <p:cNvSpPr/>
          <p:nvPr/>
        </p:nvSpPr>
        <p:spPr>
          <a:xfrm>
            <a:off x="3203640" y="2928960"/>
            <a:ext cx="79200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02020"/>
                </a:solidFill>
                <a:latin typeface="Arial"/>
                <a:ea typeface="HGP創英角ｺﾞｼｯｸUB"/>
              </a:rPr>
              <a:t>Propriet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02020"/>
                </a:solidFill>
                <a:latin typeface="Arial"/>
                <a:ea typeface="HGP創英角ｺﾞｼｯｸUB"/>
              </a:rPr>
              <a:t>Ｂ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正方形/長方形 205"/>
          <p:cNvSpPr/>
          <p:nvPr/>
        </p:nvSpPr>
        <p:spPr>
          <a:xfrm>
            <a:off x="5219640" y="2928960"/>
            <a:ext cx="792360" cy="720720"/>
          </a:xfrm>
          <a:prstGeom prst="rect">
            <a:avLst/>
          </a:prstGeom>
          <a:noFill/>
          <a:ln w="9360">
            <a:solidFill>
              <a:srgbClr val="d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d2200"/>
                </a:solidFill>
                <a:latin typeface="Arial"/>
                <a:ea typeface="HGP創英角ｺﾞｼｯｸUB"/>
              </a:rPr>
              <a:t>Propriet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d2200"/>
                </a:solidFill>
                <a:latin typeface="Arial"/>
                <a:ea typeface="HGP創英角ｺﾞｼｯｸUB"/>
              </a:rPr>
              <a:t>Ｂ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正方形/長方形 206"/>
          <p:cNvSpPr/>
          <p:nvPr/>
        </p:nvSpPr>
        <p:spPr>
          <a:xfrm>
            <a:off x="6515280" y="2928960"/>
            <a:ext cx="792000" cy="720720"/>
          </a:xfrm>
          <a:prstGeom prst="rect">
            <a:avLst/>
          </a:prstGeom>
          <a:noFill/>
          <a:ln w="9360">
            <a:solidFill>
              <a:srgbClr val="d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d2200"/>
                </a:solidFill>
                <a:latin typeface="Arial"/>
                <a:ea typeface="HGP創英角ｺﾞｼｯｸUB"/>
              </a:rPr>
              <a:t>Propriet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d2200"/>
                </a:solidFill>
                <a:latin typeface="Arial"/>
                <a:ea typeface="HGP創英角ｺﾞｼｯｸUB"/>
              </a:rPr>
              <a:t>Ｂ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正方形/長方形 209"/>
          <p:cNvSpPr/>
          <p:nvPr/>
        </p:nvSpPr>
        <p:spPr>
          <a:xfrm>
            <a:off x="7594560" y="2928960"/>
            <a:ext cx="792360" cy="720720"/>
          </a:xfrm>
          <a:prstGeom prst="rect">
            <a:avLst/>
          </a:prstGeom>
          <a:noFill/>
          <a:ln w="9360">
            <a:solidFill>
              <a:srgbClr val="d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d2200"/>
                </a:solidFill>
                <a:latin typeface="Arial"/>
                <a:ea typeface="HGP創英角ｺﾞｼｯｸUB"/>
              </a:rPr>
              <a:t>Propriet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d2200"/>
                </a:solidFill>
                <a:latin typeface="Arial"/>
                <a:ea typeface="HGP創英角ｺﾞｼｯｸUB"/>
              </a:rPr>
              <a:t>Ｂ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テキスト ボックス 42"/>
          <p:cNvSpPr/>
          <p:nvPr/>
        </p:nvSpPr>
        <p:spPr>
          <a:xfrm>
            <a:off x="4343400" y="4724280"/>
            <a:ext cx="4114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HG創英角ｺﾞｼｯｸUB"/>
              </a:rPr>
              <a:t>TSH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HG創英角ｺﾞｼｯｸUB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HG創英角ｺﾞｼｯｸUB"/>
              </a:rPr>
              <a:t>Transport Service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HG創英角ｺﾞｼｯｸUB"/>
              </a:rPr>
              <a:t>MSH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HG創英角ｺﾞｼｯｸUB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HG創英角ｺﾞｼｯｸUB"/>
              </a:rPr>
              <a:t>Message Service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HG創英角ｺﾞｼｯｸUB"/>
              </a:rPr>
              <a:t>BDH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HG創英角ｺﾞｼｯｸUB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HG創英角ｺﾞｼｯｸUB"/>
              </a:rPr>
              <a:t>Business Documen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HG創英角ｺﾞｼｯｸU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HG創英角ｺﾞｼｯｸUB"/>
              </a:rPr>
              <a:t>BD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HG創英角ｺﾞｼｯｸUB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HG創英角ｺﾞｼｯｸUB"/>
              </a:rPr>
              <a:t>Business Docu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HG創英角ｺﾞｼｯｸUB"/>
              </a:rPr>
              <a:t>,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HG創英角ｺﾞｼｯｸUB"/>
              </a:rPr>
              <a:t>SBD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HG創英角ｺﾞｼｯｸUB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HG創英角ｺﾞｼｯｸUB"/>
              </a:rPr>
              <a:t>Standard Business Docu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正方形/長方形 125"/>
          <p:cNvSpPr/>
          <p:nvPr/>
        </p:nvSpPr>
        <p:spPr>
          <a:xfrm>
            <a:off x="898560" y="2506680"/>
            <a:ext cx="792000" cy="351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Propriet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ＢＤＨ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テキスト ボックス 43"/>
          <p:cNvSpPr/>
          <p:nvPr/>
        </p:nvSpPr>
        <p:spPr>
          <a:xfrm>
            <a:off x="771120" y="213372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HG創英角ｺﾞｼｯｸUB"/>
              </a:rPr>
              <a:t>Non- dimension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Calibri"/>
                <a:ea typeface="HG創英角ｺﾞｼｯｸUB"/>
              </a:rPr>
              <a:t>／ＸＭＬ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HG創英角ｺﾞｼｯｸUB"/>
              </a:rPr>
              <a:t>Synt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正方形/長方形 140"/>
          <p:cNvSpPr/>
          <p:nvPr/>
        </p:nvSpPr>
        <p:spPr>
          <a:xfrm>
            <a:off x="7594560" y="2506680"/>
            <a:ext cx="792360" cy="351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Propriet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ＢＤ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テキスト ボックス 43"/>
          <p:cNvSpPr/>
          <p:nvPr/>
        </p:nvSpPr>
        <p:spPr>
          <a:xfrm>
            <a:off x="7603560" y="214776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HG創英角ｺﾞｼｯｸUB"/>
              </a:rPr>
              <a:t>Non- dimension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Calibri"/>
                <a:ea typeface="HG創英角ｺﾞｼｯｸUB"/>
              </a:rPr>
              <a:t>／ＸＭＬ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HG創英角ｺﾞｼｯｸUB"/>
              </a:rPr>
              <a:t>Synt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円柱 148"/>
          <p:cNvSpPr/>
          <p:nvPr/>
        </p:nvSpPr>
        <p:spPr>
          <a:xfrm>
            <a:off x="4211640" y="1927080"/>
            <a:ext cx="792000" cy="354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9360">
            <a:solidFill>
              <a:srgbClr val="ffd1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Registr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Summa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直線矢印コネクタ 149"/>
          <p:cNvCxnSpPr/>
          <p:nvPr/>
        </p:nvCxnSpPr>
        <p:spPr>
          <a:xfrm flipH="1">
            <a:off x="4419000" y="2281320"/>
            <a:ext cx="1080" cy="2037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377" name="正方形/長方形 119"/>
          <p:cNvSpPr/>
          <p:nvPr/>
        </p:nvSpPr>
        <p:spPr>
          <a:xfrm>
            <a:off x="250920" y="1631880"/>
            <a:ext cx="5976720" cy="2881440"/>
          </a:xfrm>
          <a:prstGeom prst="rect">
            <a:avLst/>
          </a:prstGeom>
          <a:noFill/>
          <a:ln w="19080">
            <a:solidFill>
              <a:srgbClr val="ad22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正方形/長方形 137"/>
          <p:cNvSpPr/>
          <p:nvPr/>
        </p:nvSpPr>
        <p:spPr>
          <a:xfrm>
            <a:off x="4190400" y="2286000"/>
            <a:ext cx="903960" cy="1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70c0"/>
                </a:solidFill>
                <a:latin typeface="Lucida Sans Unicode"/>
              </a:rPr>
              <a:t>Static 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95280" y="33336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"/>
              </a:rPr>
              <a:t>BDH Use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4"/>
          <p:cNvSpPr/>
          <p:nvPr/>
        </p:nvSpPr>
        <p:spPr>
          <a:xfrm>
            <a:off x="0" y="2362320"/>
            <a:ext cx="7467480" cy="1981080"/>
          </a:xfrm>
          <a:prstGeom prst="rect">
            <a:avLst/>
          </a:prstGeom>
          <a:solidFill>
            <a:srgbClr val="ff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88000" rIns="288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AutoShape 5"/>
          <p:cNvSpPr/>
          <p:nvPr/>
        </p:nvSpPr>
        <p:spPr>
          <a:xfrm>
            <a:off x="914400" y="2438280"/>
            <a:ext cx="6553080" cy="18432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288000" tIns="72000" bIns="900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6"/>
          <p:cNvSpPr/>
          <p:nvPr/>
        </p:nvSpPr>
        <p:spPr>
          <a:xfrm>
            <a:off x="990720" y="2833560"/>
            <a:ext cx="3504960" cy="1371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288000" tIns="90000" bIns="900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AutoShape 7"/>
          <p:cNvSpPr/>
          <p:nvPr/>
        </p:nvSpPr>
        <p:spPr>
          <a:xfrm>
            <a:off x="4572000" y="2895480"/>
            <a:ext cx="2819520" cy="10670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288000" tIns="90000" bIns="900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Business Document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8"/>
          <p:cNvSpPr/>
          <p:nvPr/>
        </p:nvSpPr>
        <p:spPr>
          <a:xfrm>
            <a:off x="1752480" y="2986200"/>
            <a:ext cx="762120" cy="304560"/>
          </a:xfrm>
          <a:prstGeom prst="roundRect">
            <a:avLst>
              <a:gd name="adj" fmla="val 16667"/>
            </a:avLst>
          </a:prstGeom>
          <a:solidFill>
            <a:srgbClr val="9ddfb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88000" rIns="288000" tIns="90000" bIns="90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Osaka"/>
              </a:rPr>
              <a:t>process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AutoShape 9"/>
          <p:cNvSpPr/>
          <p:nvPr/>
        </p:nvSpPr>
        <p:spPr>
          <a:xfrm>
            <a:off x="2590920" y="2986200"/>
            <a:ext cx="552240" cy="304560"/>
          </a:xfrm>
          <a:prstGeom prst="roundRect">
            <a:avLst>
              <a:gd name="adj" fmla="val 16667"/>
            </a:avLst>
          </a:prstGeom>
          <a:solidFill>
            <a:srgbClr val="9ddfb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88000" rIns="288000" tIns="90000" bIns="90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Osaka"/>
              </a:rPr>
              <a:t>rou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AutoShape 10"/>
          <p:cNvSpPr/>
          <p:nvPr/>
        </p:nvSpPr>
        <p:spPr>
          <a:xfrm>
            <a:off x="3200400" y="2986200"/>
            <a:ext cx="457200" cy="304560"/>
          </a:xfrm>
          <a:prstGeom prst="roundRect">
            <a:avLst>
              <a:gd name="adj" fmla="val 16667"/>
            </a:avLst>
          </a:prstGeom>
          <a:solidFill>
            <a:srgbClr val="9ddfb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88000" rIns="288000" tIns="90000" bIns="90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Osaka"/>
              </a:rPr>
              <a:t>Aut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Osaka"/>
              </a:rPr>
              <a:t>(SS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AutoShape 11"/>
          <p:cNvSpPr/>
          <p:nvPr/>
        </p:nvSpPr>
        <p:spPr>
          <a:xfrm>
            <a:off x="1219320" y="3367080"/>
            <a:ext cx="1295280" cy="304920"/>
          </a:xfrm>
          <a:prstGeom prst="roundRect">
            <a:avLst>
              <a:gd name="adj" fmla="val 16667"/>
            </a:avLst>
          </a:prstGeom>
          <a:solidFill>
            <a:srgbClr val="9ddfb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88000" rIns="288000" tIns="90000" bIns="90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Osaka"/>
              </a:rPr>
              <a:t>Profile of Message Bod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12"/>
          <p:cNvSpPr/>
          <p:nvPr/>
        </p:nvSpPr>
        <p:spPr>
          <a:xfrm>
            <a:off x="2666880" y="3367080"/>
            <a:ext cx="762120" cy="304920"/>
          </a:xfrm>
          <a:prstGeom prst="roundRect">
            <a:avLst>
              <a:gd name="adj" fmla="val 16667"/>
            </a:avLst>
          </a:prstGeom>
          <a:solidFill>
            <a:srgbClr val="9ddfb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88000" rIns="288000" tIns="90000" bIns="90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Osaka"/>
              </a:rPr>
              <a:t>Organiz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AutoShape 13"/>
          <p:cNvSpPr/>
          <p:nvPr/>
        </p:nvSpPr>
        <p:spPr>
          <a:xfrm>
            <a:off x="3581280" y="3367080"/>
            <a:ext cx="762120" cy="304920"/>
          </a:xfrm>
          <a:prstGeom prst="roundRect">
            <a:avLst>
              <a:gd name="adj" fmla="val 16667"/>
            </a:avLst>
          </a:prstGeom>
          <a:solidFill>
            <a:srgbClr val="9ddfb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88000" rIns="288000" tIns="90000" bIns="90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Osaka"/>
              </a:rPr>
              <a:t>Collabo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14"/>
          <p:cNvSpPr/>
          <p:nvPr/>
        </p:nvSpPr>
        <p:spPr>
          <a:xfrm>
            <a:off x="6046920" y="3352680"/>
            <a:ext cx="1268280" cy="45720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Osaka"/>
              </a:rPr>
              <a:t>Business Docu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Osaka"/>
              </a:rPr>
              <a:t>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AutoShape 15"/>
          <p:cNvSpPr/>
          <p:nvPr/>
        </p:nvSpPr>
        <p:spPr>
          <a:xfrm>
            <a:off x="1219320" y="3747960"/>
            <a:ext cx="761760" cy="304920"/>
          </a:xfrm>
          <a:prstGeom prst="roundRect">
            <a:avLst>
              <a:gd name="adj" fmla="val 16667"/>
            </a:avLst>
          </a:prstGeom>
          <a:solidFill>
            <a:srgbClr val="9ddfb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88000" rIns="288000" tIns="90000" bIns="90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Osaka"/>
              </a:rPr>
              <a:t>Conn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AutoShape 16"/>
          <p:cNvSpPr/>
          <p:nvPr/>
        </p:nvSpPr>
        <p:spPr>
          <a:xfrm>
            <a:off x="2133720" y="3747960"/>
            <a:ext cx="761760" cy="304920"/>
          </a:xfrm>
          <a:prstGeom prst="roundRect">
            <a:avLst>
              <a:gd name="adj" fmla="val 16667"/>
            </a:avLst>
          </a:prstGeom>
          <a:solidFill>
            <a:srgbClr val="9ddfb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88000" rIns="288000" tIns="90000" bIns="90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Osaka"/>
              </a:rPr>
              <a:t>Err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AutoShape 17"/>
          <p:cNvSpPr/>
          <p:nvPr/>
        </p:nvSpPr>
        <p:spPr>
          <a:xfrm>
            <a:off x="4800600" y="3381480"/>
            <a:ext cx="1114560" cy="3808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Osaka"/>
              </a:rPr>
              <a:t>Business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  <a:ea typeface="Osaka"/>
              </a:rPr>
              <a:t>Document Head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18"/>
          <p:cNvSpPr/>
          <p:nvPr/>
        </p:nvSpPr>
        <p:spPr>
          <a:xfrm>
            <a:off x="1143000" y="3338640"/>
            <a:ext cx="3257640" cy="771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88000" rIns="288000" tIns="90000" bIns="90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AutoShape 19"/>
          <p:cNvSpPr/>
          <p:nvPr/>
        </p:nvSpPr>
        <p:spPr>
          <a:xfrm>
            <a:off x="1695600" y="2928960"/>
            <a:ext cx="2705040" cy="390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88000" rIns="288000" tIns="90000" bIns="90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AutoShape 20"/>
          <p:cNvSpPr/>
          <p:nvPr/>
        </p:nvSpPr>
        <p:spPr>
          <a:xfrm>
            <a:off x="4619520" y="3276720"/>
            <a:ext cx="2733840" cy="590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88000" rIns="288000" tIns="90000" bIns="90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AutoShape 21"/>
          <p:cNvSpPr/>
          <p:nvPr/>
        </p:nvSpPr>
        <p:spPr>
          <a:xfrm>
            <a:off x="2971800" y="3747960"/>
            <a:ext cx="1295280" cy="304920"/>
          </a:xfrm>
          <a:prstGeom prst="roundRect">
            <a:avLst>
              <a:gd name="adj" fmla="val 16667"/>
            </a:avLst>
          </a:prstGeom>
          <a:solidFill>
            <a:srgbClr val="9ddfb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88000" rIns="288000" tIns="90000" bIns="90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Osaka"/>
              </a:rPr>
              <a:t>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22"/>
          <p:cNvSpPr/>
          <p:nvPr/>
        </p:nvSpPr>
        <p:spPr>
          <a:xfrm>
            <a:off x="0" y="5105520"/>
            <a:ext cx="8317080" cy="1377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88000" rIns="288000" tIns="90000" b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25"/>
          <p:cNvSpPr/>
          <p:nvPr/>
        </p:nvSpPr>
        <p:spPr>
          <a:xfrm>
            <a:off x="5410080" y="5514840"/>
            <a:ext cx="2251080" cy="4287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88000" rIns="288000" tIns="90000" bIns="900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26"/>
          <p:cNvSpPr/>
          <p:nvPr/>
        </p:nvSpPr>
        <p:spPr>
          <a:xfrm rot="10800000">
            <a:off x="7086240" y="4352400"/>
            <a:ext cx="685800" cy="685800"/>
          </a:xfrm>
          <a:prstGeom prst="up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88000" rIns="288000" tIns="90000" bIns="900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HTT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Bind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AutoShape 27"/>
          <p:cNvSpPr/>
          <p:nvPr/>
        </p:nvSpPr>
        <p:spPr>
          <a:xfrm rot="10800000">
            <a:off x="3580920" y="4352400"/>
            <a:ext cx="685800" cy="685800"/>
          </a:xfrm>
          <a:prstGeom prst="up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88000" rIns="288000" tIns="90000" bIns="900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FT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Bind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28"/>
          <p:cNvSpPr/>
          <p:nvPr/>
        </p:nvSpPr>
        <p:spPr>
          <a:xfrm rot="10800000">
            <a:off x="1904760" y="4343040"/>
            <a:ext cx="685800" cy="685800"/>
          </a:xfrm>
          <a:prstGeom prst="up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88000" rIns="288000" tIns="90000" bIns="900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SMT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Bind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AutoShape 29"/>
          <p:cNvSpPr/>
          <p:nvPr/>
        </p:nvSpPr>
        <p:spPr>
          <a:xfrm rot="10800000">
            <a:off x="5257440" y="4352400"/>
            <a:ext cx="685800" cy="685800"/>
          </a:xfrm>
          <a:prstGeom prst="up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88000" rIns="288000" tIns="90000" bIns="900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Et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Bind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AutoShape 30"/>
          <p:cNvSpPr/>
          <p:nvPr/>
        </p:nvSpPr>
        <p:spPr>
          <a:xfrm>
            <a:off x="3733920" y="2986200"/>
            <a:ext cx="533160" cy="304560"/>
          </a:xfrm>
          <a:prstGeom prst="roundRect">
            <a:avLst>
              <a:gd name="adj" fmla="val 16667"/>
            </a:avLst>
          </a:prstGeom>
          <a:solidFill>
            <a:srgbClr val="9ddfb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88000" rIns="288000" tIns="90000" bIns="90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Osaka"/>
              </a:rPr>
              <a:t>・・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AutoShape 31"/>
          <p:cNvSpPr/>
          <p:nvPr/>
        </p:nvSpPr>
        <p:spPr>
          <a:xfrm>
            <a:off x="1042920" y="5154480"/>
            <a:ext cx="7129440" cy="1295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88000" rIns="288000" tIns="90000" bIns="900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Transport Messa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AutoShape 32"/>
          <p:cNvSpPr/>
          <p:nvPr/>
        </p:nvSpPr>
        <p:spPr>
          <a:xfrm>
            <a:off x="1908000" y="5514840"/>
            <a:ext cx="1297080" cy="360360"/>
          </a:xfrm>
          <a:prstGeom prst="roundRect">
            <a:avLst>
              <a:gd name="adj" fmla="val 16667"/>
            </a:avLst>
          </a:prstGeom>
          <a:solidFill>
            <a:srgbClr val="ffed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IP 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  <a:ea typeface="HGP創英角ｺﾞｼｯｸUB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33"/>
          <p:cNvSpPr/>
          <p:nvPr/>
        </p:nvSpPr>
        <p:spPr>
          <a:xfrm>
            <a:off x="1905120" y="5943600"/>
            <a:ext cx="1296720" cy="360360"/>
          </a:xfrm>
          <a:prstGeom prst="roundRect">
            <a:avLst>
              <a:gd name="adj" fmla="val 16667"/>
            </a:avLst>
          </a:prstGeom>
          <a:solidFill>
            <a:srgbClr val="ffed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Quality of Serv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AutoShape 34"/>
          <p:cNvSpPr/>
          <p:nvPr/>
        </p:nvSpPr>
        <p:spPr>
          <a:xfrm>
            <a:off x="3276720" y="5514840"/>
            <a:ext cx="2057400" cy="809640"/>
          </a:xfrm>
          <a:prstGeom prst="roundRect">
            <a:avLst>
              <a:gd name="adj" fmla="val 16667"/>
            </a:avLst>
          </a:prstGeom>
          <a:solidFill>
            <a:srgbClr val="ffed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Dialect in Specific Protocol such as HTT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35"/>
          <p:cNvSpPr/>
          <p:nvPr/>
        </p:nvSpPr>
        <p:spPr>
          <a:xfrm>
            <a:off x="0" y="906480"/>
            <a:ext cx="8153280" cy="1295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88000" rIns="288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AutoShape 39"/>
          <p:cNvSpPr/>
          <p:nvPr/>
        </p:nvSpPr>
        <p:spPr>
          <a:xfrm>
            <a:off x="914400" y="1049400"/>
            <a:ext cx="6985080" cy="10666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88000" rIns="288000" tIns="90000" bIns="900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Business Document 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AutoShape 40"/>
          <p:cNvSpPr/>
          <p:nvPr/>
        </p:nvSpPr>
        <p:spPr>
          <a:xfrm>
            <a:off x="4716360" y="1409760"/>
            <a:ext cx="3056040" cy="52848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Business Document Cont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ffffff"/>
                </a:solidFill>
                <a:latin typeface="Arial"/>
                <a:ea typeface="Osaka"/>
              </a:rPr>
              <a:t>(UN/CEFACT [ASMA], OAGi, UBL, Other</a:t>
            </a:r>
            <a:r>
              <a:rPr b="1" lang="ja-JP" sz="1200" spc="-1" strike="noStrike">
                <a:solidFill>
                  <a:srgbClr val="ffffff"/>
                </a:solidFill>
                <a:latin typeface="Arial"/>
                <a:ea typeface="Osak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AutoShape 41"/>
          <p:cNvSpPr/>
          <p:nvPr/>
        </p:nvSpPr>
        <p:spPr>
          <a:xfrm>
            <a:off x="2124000" y="1409760"/>
            <a:ext cx="2303640" cy="5252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Osaka"/>
              </a:rPr>
              <a:t>Busines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Osaka"/>
              </a:rPr>
              <a:t>Document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42"/>
          <p:cNvSpPr/>
          <p:nvPr/>
        </p:nvSpPr>
        <p:spPr>
          <a:xfrm>
            <a:off x="8388360" y="977760"/>
            <a:ext cx="576360" cy="525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ry Summary (CSP Oth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AutoShape 43"/>
          <p:cNvSpPr/>
          <p:nvPr/>
        </p:nvSpPr>
        <p:spPr>
          <a:xfrm>
            <a:off x="8153280" y="1676520"/>
            <a:ext cx="360360" cy="288720"/>
          </a:xfrm>
          <a:prstGeom prst="leftArrow">
            <a:avLst>
              <a:gd name="adj1" fmla="val 50000"/>
              <a:gd name="adj2" fmla="val 31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AutoShape 44"/>
          <p:cNvSpPr/>
          <p:nvPr/>
        </p:nvSpPr>
        <p:spPr>
          <a:xfrm>
            <a:off x="8153280" y="3352680"/>
            <a:ext cx="360360" cy="289080"/>
          </a:xfrm>
          <a:prstGeom prst="leftArrow">
            <a:avLst>
              <a:gd name="adj1" fmla="val 50000"/>
              <a:gd name="adj2" fmla="val 3116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AutoShape 45"/>
          <p:cNvSpPr/>
          <p:nvPr/>
        </p:nvSpPr>
        <p:spPr>
          <a:xfrm>
            <a:off x="8172360" y="5807160"/>
            <a:ext cx="360360" cy="288720"/>
          </a:xfrm>
          <a:prstGeom prst="leftArrow">
            <a:avLst>
              <a:gd name="adj1" fmla="val 50000"/>
              <a:gd name="adj2" fmla="val 31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AutoShape 50"/>
          <p:cNvSpPr/>
          <p:nvPr/>
        </p:nvSpPr>
        <p:spPr>
          <a:xfrm rot="10800000">
            <a:off x="8172000" y="2682360"/>
            <a:ext cx="360360" cy="289080"/>
          </a:xfrm>
          <a:prstGeom prst="leftArrow">
            <a:avLst>
              <a:gd name="adj1" fmla="val 50000"/>
              <a:gd name="adj2" fmla="val 3116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AutoShape 51"/>
          <p:cNvSpPr/>
          <p:nvPr/>
        </p:nvSpPr>
        <p:spPr>
          <a:xfrm rot="10800000">
            <a:off x="8172000" y="5303880"/>
            <a:ext cx="360360" cy="288720"/>
          </a:xfrm>
          <a:prstGeom prst="leftArrow">
            <a:avLst>
              <a:gd name="adj1" fmla="val 50000"/>
              <a:gd name="adj2" fmla="val 31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AutoShape 26"/>
          <p:cNvSpPr/>
          <p:nvPr/>
        </p:nvSpPr>
        <p:spPr>
          <a:xfrm rot="10800000">
            <a:off x="7619760" y="2209320"/>
            <a:ext cx="533160" cy="2133720"/>
          </a:xfrm>
          <a:prstGeom prst="upArrow">
            <a:avLst>
              <a:gd name="adj1" fmla="val 50000"/>
              <a:gd name="adj2" fmla="val 43281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88000" rIns="288000" tIns="90000" bIns="900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Trans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(REST, other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Bind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AutoShape 50"/>
          <p:cNvSpPr/>
          <p:nvPr/>
        </p:nvSpPr>
        <p:spPr>
          <a:xfrm rot="10800000">
            <a:off x="8172000" y="1142640"/>
            <a:ext cx="360360" cy="289080"/>
          </a:xfrm>
          <a:prstGeom prst="leftArrow">
            <a:avLst>
              <a:gd name="adj1" fmla="val 50000"/>
              <a:gd name="adj2" fmla="val 3116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33336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"/>
              </a:rPr>
              <a:t>Messaging Service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2895480" y="2666880"/>
            <a:ext cx="3467160" cy="21146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1371600" y="76212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y Question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47920" y="22860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"/>
              </a:rPr>
              <a:t>B2B Design Workflo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1143000"/>
            <a:ext cx="3810240" cy="4572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 Requi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1905120"/>
            <a:ext cx="3810240" cy="4572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 Proces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66880" y="2666880"/>
            <a:ext cx="3810240" cy="4572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3429000"/>
            <a:ext cx="3810240" cy="4572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6880" y="4267080"/>
            <a:ext cx="3810240" cy="4572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ax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5105520"/>
            <a:ext cx="3810240" cy="4572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ing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6880" y="5943600"/>
            <a:ext cx="3810240" cy="4572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95680" y="160020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95680" y="23623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31240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39625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480060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95680" y="56386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1371600"/>
            <a:ext cx="152388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/CEF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86600" y="2514600"/>
            <a:ext cx="152388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 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3352680"/>
            <a:ext cx="152424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86600" y="4952880"/>
            <a:ext cx="152388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eb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eb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essa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57400" y="1447920"/>
            <a:ext cx="457200" cy="1371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3352680"/>
            <a:ext cx="457200" cy="1371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29400" y="2666880"/>
            <a:ext cx="380880" cy="1295640"/>
          </a:xfrm>
          <a:custGeom>
            <a:avLst/>
            <a:gdLst>
              <a:gd name="textAreaLeft" fmla="*/ 0 w 380880"/>
              <a:gd name="textAreaRight" fmla="*/ 137520 w 3808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29400" y="5029200"/>
            <a:ext cx="380880" cy="1295280"/>
          </a:xfrm>
          <a:custGeom>
            <a:avLst/>
            <a:gdLst>
              <a:gd name="textAreaLeft" fmla="*/ 0 w 380880"/>
              <a:gd name="textAreaRight" fmla="*/ 137520 w 3808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1752480"/>
            <a:ext cx="106704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0120" y="2057400"/>
            <a:ext cx="137160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T Catalog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05720" y="4114800"/>
            <a:ext cx="1066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CB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15200" y="4572000"/>
            <a:ext cx="1066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D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2819520"/>
            <a:ext cx="685800" cy="533160"/>
          </a:xfrm>
          <a:prstGeom prst="flowChartMagneticDisk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4952880"/>
            <a:ext cx="990720" cy="533520"/>
          </a:xfrm>
          <a:prstGeom prst="flowChartMagneticDisk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29600" y="3962520"/>
            <a:ext cx="685800" cy="533160"/>
          </a:xfrm>
          <a:prstGeom prst="flowChartMagneticDisk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3276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762120" y="45720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8381520" y="373356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848720" y="3962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7238880" y="380952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38880" y="20574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8229600" y="23623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762120"/>
            <a:ext cx="685800" cy="533160"/>
          </a:xfrm>
          <a:prstGeom prst="flowChartMagneticDisk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837720" y="1218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63360" y="1273320"/>
            <a:ext cx="8972280" cy="5417280"/>
            <a:chOff x="63360" y="1273320"/>
            <a:chExt cx="8972280" cy="5417280"/>
          </a:xfrm>
        </p:grpSpPr>
        <p:sp>
          <p:nvSpPr>
            <p:cNvPr id="120" name=""/>
            <p:cNvSpPr/>
            <p:nvPr/>
          </p:nvSpPr>
          <p:spPr>
            <a:xfrm>
              <a:off x="1836360" y="5432760"/>
              <a:ext cx="4774320" cy="627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800" rIns="558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1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</a:t>
              </a:r>
              <a:r>
                <a:rPr b="0" lang="en-AU" sz="1100" spc="-1" strike="noStrike">
                  <a:solidFill>
                    <a:srgbClr val="000000"/>
                  </a:solidFill>
                  <a:latin typeface="Arial"/>
                </a:rPr>
                <a:t>Runtim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1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</a:t>
              </a:r>
              <a:r>
                <a:rPr b="0" lang="en-AU" sz="1100" spc="-1" strike="noStrike">
                  <a:solidFill>
                    <a:srgbClr val="000000"/>
                  </a:solidFill>
                  <a:latin typeface="Arial"/>
                </a:rPr>
                <a:t>engi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720" y="4675320"/>
              <a:ext cx="8814600" cy="626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800" rIns="558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AU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AU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AU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AU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AU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AU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AU" sz="1100" spc="-1" strike="noStrike">
                  <a:solidFill>
                    <a:srgbClr val="000000"/>
                  </a:solidFill>
                  <a:latin typeface="Arial"/>
                </a:rPr>
                <a:t>Technology Transformations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2720" y="3845160"/>
              <a:ext cx="8815320" cy="6267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800" rIns="558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                                      </a:t>
              </a: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CCBDA</a:t>
              </a: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AU" sz="1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 Business Document Assemb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3000" y="1273320"/>
              <a:ext cx="3136680" cy="3758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800" rIns="558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UMM - Business Process Vie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360" y="2135160"/>
              <a:ext cx="2121120" cy="497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800" rIns="558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UMM - Business Collaboration Vie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680" y="2757960"/>
              <a:ext cx="4226400" cy="4647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800" rIns="558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UMM Business Transaction Vie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UMM - Business Choreography Vie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97080" y="1273320"/>
              <a:ext cx="2836080" cy="375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800" rIns="558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CCTS -  Core Component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16640" y="2140560"/>
              <a:ext cx="2901240" cy="4996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800" rIns="558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CCL - Business Informatio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Entities Libra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3240" y="3917520"/>
              <a:ext cx="3284640" cy="4971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UMM - Information Ent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29520" y="1707480"/>
              <a:ext cx="3491280" cy="3150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UCM </a:t>
              </a:r>
              <a:r>
                <a:rPr b="0" lang="en-AU" sz="10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 Business Cont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1320" y="3280680"/>
              <a:ext cx="3648240" cy="439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UCM </a:t>
              </a:r>
              <a:r>
                <a:rPr b="0" lang="en-AU" sz="10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Action/Inten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20400" y="2139840"/>
              <a:ext cx="749160" cy="5014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BD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2280" y="3908160"/>
              <a:ext cx="932400" cy="5025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800" rIns="558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100" spc="-1" strike="noStrike">
                  <a:solidFill>
                    <a:srgbClr val="000000"/>
                  </a:solidFill>
                  <a:latin typeface="Arial"/>
                </a:rPr>
                <a:t>BD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0400" y="4800600"/>
              <a:ext cx="3377880" cy="376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800" rIns="558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100" spc="-1" strike="noStrike">
                  <a:solidFill>
                    <a:srgbClr val="000000"/>
                  </a:solidFill>
                  <a:latin typeface="Arial"/>
                </a:rPr>
                <a:t>XML NDR - XML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72160" y="4807440"/>
              <a:ext cx="1394280" cy="3758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800" rIns="558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100" spc="-1" strike="noStrike">
                  <a:solidFill>
                    <a:srgbClr val="ffffff"/>
                  </a:solidFill>
                  <a:latin typeface="Arial"/>
                </a:rPr>
                <a:t>EDIFA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32960" y="5183280"/>
              <a:ext cx="495000" cy="313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53720" y="5173920"/>
              <a:ext cx="495720" cy="313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29400" y="5560560"/>
              <a:ext cx="3379320" cy="3776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800" rIns="558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100" spc="-1" strike="noStrike">
                  <a:solidFill>
                    <a:srgbClr val="000000"/>
                  </a:solidFill>
                  <a:latin typeface="Arial"/>
                </a:rPr>
                <a:t>UCM </a:t>
              </a:r>
              <a:r>
                <a:rPr b="0" lang="en-AU" sz="11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AU" sz="1100" spc="-1" strike="noStrike">
                  <a:solidFill>
                    <a:srgbClr val="000000"/>
                  </a:solidFill>
                  <a:latin typeface="Arial"/>
                </a:rPr>
                <a:t> Run-time Contex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49760" y="1639080"/>
              <a:ext cx="495000" cy="4647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23480" y="2620080"/>
              <a:ext cx="495720" cy="165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86080" y="1605240"/>
              <a:ext cx="495000" cy="11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92920" y="2027520"/>
              <a:ext cx="495720" cy="114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60480" y="3166560"/>
              <a:ext cx="495000" cy="143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69120" y="3707640"/>
              <a:ext cx="495000" cy="2170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36360" y="6061320"/>
              <a:ext cx="4774320" cy="316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800" rIns="558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100" spc="-1" strike="noStrike">
                  <a:solidFill>
                    <a:srgbClr val="000000"/>
                  </a:solidFill>
                  <a:latin typeface="Arial"/>
                </a:rPr>
                <a:t>Communication lay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36360" y="6377400"/>
              <a:ext cx="4774320" cy="313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800" rIns="558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100" spc="-1" strike="noStrike">
                  <a:solidFill>
                    <a:srgbClr val="000000"/>
                  </a:solidFill>
                  <a:latin typeface="Arial"/>
                </a:rPr>
                <a:t>Transport lay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67880" y="2653920"/>
              <a:ext cx="1573920" cy="1381680"/>
            </a:xfrm>
            <a:custGeom>
              <a:avLst/>
              <a:gdLst>
                <a:gd name="textAreaLeft" fmla="*/ 183240 w 1573920"/>
                <a:gd name="textAreaRight" fmla="*/ 1296720 w 1573920"/>
                <a:gd name="textAreaTop" fmla="*/ 1063080 h 1381680"/>
                <a:gd name="textAreaBottom" fmla="*/ 1138320 h 138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0424"/>
                  </a:moveTo>
                  <a:lnTo>
                    <a:pt x="16618" y="20424"/>
                  </a:lnTo>
                  <a:lnTo>
                    <a:pt x="16618" y="2516"/>
                  </a:lnTo>
                  <a:lnTo>
                    <a:pt x="12812" y="2516"/>
                  </a:lnTo>
                  <a:lnTo>
                    <a:pt x="17206" y="0"/>
                  </a:lnTo>
                  <a:lnTo>
                    <a:pt x="21600" y="2516"/>
                  </a:lnTo>
                  <a:lnTo>
                    <a:pt x="17794" y="2516"/>
                  </a:lnTo>
                  <a:lnTo>
                    <a:pt x="1779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59880" y="2646360"/>
              <a:ext cx="495720" cy="1248120"/>
            </a:xfrm>
            <a:prstGeom prst="downArrow">
              <a:avLst>
                <a:gd name="adj1" fmla="val 14528"/>
                <a:gd name="adj2" fmla="val 3156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447040" y="2520360"/>
              <a:ext cx="570240" cy="1297440"/>
            </a:xfrm>
            <a:prstGeom prst="upArrow">
              <a:avLst>
                <a:gd name="adj1" fmla="val 50000"/>
                <a:gd name="adj2" fmla="val 5688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7720" bIns="277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900" spc="-1" strike="noStrike">
                  <a:solidFill>
                    <a:srgbClr val="000000"/>
                  </a:solidFill>
                  <a:latin typeface="Arial"/>
                </a:rPr>
                <a:t>Semantic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466840" y="5335200"/>
              <a:ext cx="568800" cy="1347120"/>
            </a:xfrm>
            <a:prstGeom prst="downArrow">
              <a:avLst>
                <a:gd name="adj1" fmla="val 50000"/>
                <a:gd name="adj2" fmla="val 5920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7720" bIns="277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9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04160" y="4460040"/>
              <a:ext cx="495000" cy="213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70160" y="2135160"/>
              <a:ext cx="2025360" cy="497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800" rIns="558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UMM - Business Entity Vie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64160" y="2612520"/>
              <a:ext cx="495720" cy="1659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58400" y="1638360"/>
              <a:ext cx="495000" cy="4647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4334400" y="2247120"/>
              <a:ext cx="261720" cy="314640"/>
            </a:xfrm>
            <a:prstGeom prst="downArrow">
              <a:avLst>
                <a:gd name="adj1" fmla="val 52250"/>
                <a:gd name="adj2" fmla="val 4283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332000" y="0"/>
            <a:ext cx="67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"/>
              </a:rPr>
              <a:t>UN/CEFACT Technical Specification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FACT Architecture - Nada Reinprech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6D80-6BDB-4C24-BD31-8EE09AB638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26920" y="2602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"/>
              </a:rPr>
              <a:t>UN/CEFACT TS &amp;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39640" y="836640"/>
          <a:ext cx="7991640" cy="5959440"/>
        </p:xfrm>
        <a:graphic>
          <a:graphicData uri="http://schemas.openxmlformats.org/drawingml/2006/table">
            <a:tbl>
              <a:tblPr/>
              <a:tblGrid>
                <a:gridCol w="1089720"/>
                <a:gridCol w="1712880"/>
                <a:gridCol w="2179080"/>
                <a:gridCol w="1380240"/>
                <a:gridCol w="1414440"/>
                <a:gridCol w="21600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CEF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Provi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Specifications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CEFACT Produces</a:t>
                      </a: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Others Produce</a:t>
                      </a: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Typ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ore Data Typ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DT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Data Type Catalogu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Semantics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ore Components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CTS/UPCC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C Library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ontex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UC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ontext Grap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ontext Graph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Business Information Entities (including BDTs)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CTS/UPCC+U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(UMM ,BRS, RSM)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BIE Library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BIE Library(s)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Business Process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Business Process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UMM, UCM, UPCC, BRS Templa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BRSes/Business Process Librar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BRSes/Business Process Librari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Structure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Document Models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Message Assembly Template/Specification?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Message Library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Message Library(s)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Syntax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Formats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NDR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Schemas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Schemas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Implement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Implementation Guidelin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Implementation Guideline Specification (profiling and variance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0880" y="236232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sign Data Model and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06:52:15Z</dcterms:created>
  <dc:creator>admin</dc:creator>
  <dc:description/>
  <dc:language>en-US</dc:language>
  <cp:lastModifiedBy>Sugamata</cp:lastModifiedBy>
  <dcterms:modified xsi:type="dcterms:W3CDTF">2012-06-17T07:01:09Z</dcterms:modified>
  <cp:revision>25</cp:revision>
  <dc:subject/>
  <dc:title>Presentation Scenario</dc:title>
</cp:coreProperties>
</file>