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42ED-53A8-4791-A9C3-86A5E5D19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AF64-1D6E-4190-B931-BAE2B4842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5D94-A84A-4811-8391-22D00E835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5594-1754-4988-AA1A-B342012A1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34FE-730F-4454-9FAF-64D0A9041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8C61-CF4A-40BD-ABC9-2E60034AC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26C7-5AB9-4A16-8FCF-74E71F470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A127-FF10-48A8-9092-A64E4D9EC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6D26-0AB3-47D3-AC6C-68D4727DC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B93F-83CB-435A-B698-1F8F44D2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35DF-EEBE-4BBB-BF36-EE335A83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88CC-3F78-432B-9BD2-9F86098D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B9C8C-A798-41C9-A5E9-D3B86D3F3A6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68580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国際連携の現状と課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19920" y="228600"/>
            <a:ext cx="2819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国際連携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2012-1-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81080" y="2209680"/>
            <a:ext cx="58676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１．グローバルビジネスの視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２．グローバル情報連携の視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F9CC-0D09-41AB-8179-EA0A0505579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90720" y="2286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Times New Roman"/>
              </a:rPr>
              <a:t>グローバル・ビジネスの視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1219320"/>
            <a:ext cx="807696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１．商習慣の違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・具体的に困っている問題は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企業へのヒアリン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２．法環境の違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・取引契約／請求支払／電子書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UNNExT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リーガル・チー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３．業務領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・消費財流通：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GS1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／流通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B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・製造サプライチェーン：国際／業界横断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T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・注目領域：原産地証明／会計／環境／エネルギ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15A1-5786-431A-A2D3-6AADFE9FEF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90720" y="2286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Times New Roman"/>
              </a:rPr>
              <a:t>グローバル情報連携の視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143000"/>
            <a:ext cx="792504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１．標準化の促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国際／業界横断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EDI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仕様の整備と促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TF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の成果を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AFACT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メンバーへ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・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AFACT –TMC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ロードマッ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２．実装の相互運用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相互運用性のある信頼性空間の構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・メッセージング基盤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T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共通仕様／個別仕様の連携フレームワー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・国連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CEFACT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技術フレームワー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・国際／業界横断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EDI T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531A-4F16-4D5C-A204-C59AEC4371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8T01:40:18Z</dcterms:created>
  <dc:creator>admin</dc:creator>
  <dc:description/>
  <dc:language>en-US</dc:language>
  <cp:lastModifiedBy>admin</cp:lastModifiedBy>
  <dcterms:modified xsi:type="dcterms:W3CDTF">2012-06-18T01:42:27Z</dcterms:modified>
  <cp:revision>2</cp:revision>
  <dc:subject/>
  <dc:title>PowerPoint プレゼンテーション</dc:title>
</cp:coreProperties>
</file>