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BCC-B219-48CF-B541-56849546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E31-22AC-4782-9DAC-14881463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BD1-DD29-417F-8AC5-5F8498DA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D05-6927-4E5B-8C40-0E23EFB0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E73-32C9-4B6B-BFE0-948C8243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AE1-492B-4CD7-84C3-21A4C62C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9DE-E833-49AD-B8B3-455FF5F2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D9B-9959-4BA6-BF5F-EC73FBA3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03E-B6AA-4918-8E99-EEEF726C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F41-6747-44FD-B96E-850EE4AF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98A-8598-4E4E-A612-7737B633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4CF-A543-4750-878A-0DCE5711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BC27-1D67-43EE-9A65-BFFDAEA7A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90792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国際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標準の系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88000" y="260280"/>
            <a:ext cx="23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国際連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2-1-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969920"/>
            <a:ext cx="864216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7T03:37:22Z</dcterms:created>
  <dc:creator>Sugamata</dc:creator>
  <dc:description/>
  <dc:language>en-US</dc:language>
  <cp:lastModifiedBy>Sugamata</cp:lastModifiedBy>
  <dcterms:modified xsi:type="dcterms:W3CDTF">2012-06-17T03:52:39Z</dcterms:modified>
  <cp:revision>2</cp:revision>
  <dc:subject/>
  <dc:title>スライド 1</dc:title>
</cp:coreProperties>
</file>