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E63-F4B7-49F8-95A8-AB7E24FC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0F1-B705-4DB9-95DE-6EB7149D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65F-9BD5-4EA7-8FBE-6ACD5855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08B-92E7-4F61-BCA6-A27B3B28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996-0062-4BDE-B818-7B0918E3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C36-0367-4546-BE3D-6C9B6AB3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681-CA52-469B-B925-2EEF3905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D0A-4C9D-4B30-8750-92E0CE84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961-4A05-443E-9EFC-B86F7145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FBC-181B-4430-BF50-42B59339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3CA-8F75-43B3-9D96-ABF309B0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340-C606-4168-BC8C-0191FB7E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51EF-F0FE-4508-B4B4-B29C246939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286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納品書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Delivery Notice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077320" y="160200"/>
          <a:ext cx="68580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60200"/>
                    <a:ext cx="6858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724280" y="3808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国連ＣＥＦＡＣＴ／ＳＩＰＳ準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86868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828800"/>
            <a:ext cx="8686800" cy="5446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127160"/>
            <a:ext cx="2057400" cy="304920"/>
          </a:xfrm>
          <a:prstGeom prst="rect">
            <a:avLst/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1279440"/>
            <a:ext cx="31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納品番号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(Delivery No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105084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請求日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Date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15080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発注者名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Name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2716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受注者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Supplier Name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1828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828800"/>
            <a:ext cx="1752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品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Description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1828800"/>
            <a:ext cx="1752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数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Quantity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828800"/>
            <a:ext cx="1752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単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Price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1828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1828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1828800"/>
            <a:ext cx="1752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金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Amoun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1828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1828800"/>
            <a:ext cx="1752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備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Remarks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343400"/>
            <a:ext cx="2743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362320"/>
            <a:ext cx="8686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743200"/>
            <a:ext cx="8686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124080"/>
            <a:ext cx="8686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505320"/>
            <a:ext cx="8686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828800"/>
            <a:ext cx="8686800" cy="243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343400"/>
            <a:ext cx="1981080" cy="3808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3434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合計金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Total Amoun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127160"/>
            <a:ext cx="24382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432080"/>
            <a:ext cx="2057400" cy="304560"/>
          </a:xfrm>
          <a:prstGeom prst="rect">
            <a:avLst/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432080"/>
            <a:ext cx="243828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432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納入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部門等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343400"/>
            <a:ext cx="24382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4343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合計消費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447920"/>
            <a:ext cx="106668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1143000"/>
            <a:ext cx="1066680" cy="304920"/>
          </a:xfrm>
          <a:prstGeom prst="rect">
            <a:avLst/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1143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消費税区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952880"/>
            <a:ext cx="861048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57913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7913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57913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43800" y="57913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0958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60958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60958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60958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57913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57913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57913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0958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60958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57913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60958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57913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0958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6095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51814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1814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51814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51814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54864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54864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54864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54864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5181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51814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51814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54864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4864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51814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486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51814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⑤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486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5486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7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ＭＳ Ｐゴシック"/>
              </a:rPr>
              <a:t>基本サンプル（案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7621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077320" y="84240"/>
          <a:ext cx="68580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84240"/>
                    <a:ext cx="6858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724280" y="3049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国連ＣＥＦＡＣＴ／ＳＩＰＳ準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676520"/>
            <a:ext cx="86868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676520"/>
            <a:ext cx="8686800" cy="544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974880"/>
            <a:ext cx="2057400" cy="304560"/>
          </a:xfrm>
          <a:prstGeom prst="rect">
            <a:avLst/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1127160"/>
            <a:ext cx="31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請求番号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(Delivery No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89856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請求日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Date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135576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発注者名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Name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97488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受注者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Supplier Name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16765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676520"/>
            <a:ext cx="1752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品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Description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1676520"/>
            <a:ext cx="1752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数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Quantity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1676520"/>
            <a:ext cx="1752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単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Price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16765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16765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1676520"/>
            <a:ext cx="1752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金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Amoun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6765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1676520"/>
            <a:ext cx="1752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備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Remarks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191120"/>
            <a:ext cx="2743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209680"/>
            <a:ext cx="8686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590920"/>
            <a:ext cx="8686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971800"/>
            <a:ext cx="8686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352680"/>
            <a:ext cx="8686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76520"/>
            <a:ext cx="8686800" cy="243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4191120"/>
            <a:ext cx="1981080" cy="3808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19112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合計金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Total Amoun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974880"/>
            <a:ext cx="243828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279440"/>
            <a:ext cx="2057400" cy="304920"/>
          </a:xfrm>
          <a:prstGeom prst="rect">
            <a:avLst/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1279440"/>
            <a:ext cx="24382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27944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納入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部門等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4191120"/>
            <a:ext cx="24382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4191120"/>
            <a:ext cx="1676520" cy="3808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1911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合計消費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295280"/>
            <a:ext cx="1066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990720"/>
            <a:ext cx="1066680" cy="304560"/>
          </a:xfrm>
          <a:prstGeom prst="rect">
            <a:avLst/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9907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消費税区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8672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58672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58672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8672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1722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61722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61722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61722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8672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58672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8672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61722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61722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58672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1722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58672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1722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6172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52578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2578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52578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43800" y="52578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55627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5627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55627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55627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5257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52578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52578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55627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5627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52578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55627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52578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⑤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55627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55627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82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請求書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Invoice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4724280"/>
            <a:ext cx="861048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8769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銀行名：　　　　　　　　　　　　　　支店名：　　　　　　　　　　種別：　　　　　　口座番号：　　　　　　　　　　口座名義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4876920"/>
            <a:ext cx="883944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7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ＭＳ Ｐゴシック"/>
              </a:rPr>
              <a:t>基本サンプル（案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2120" y="1522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納品書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Delivery Notice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7621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77320" y="84240"/>
          <a:ext cx="68580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84240"/>
                    <a:ext cx="6858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724280" y="3049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国連ＣＥＦＡＣＴ／ＳＩＰＳ準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676520"/>
            <a:ext cx="86868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676520"/>
            <a:ext cx="8686800" cy="544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974880"/>
            <a:ext cx="2057400" cy="304560"/>
          </a:xfrm>
          <a:prstGeom prst="rect">
            <a:avLst/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1127160"/>
            <a:ext cx="31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請求番号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(Invoice No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89856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請求日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Date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135576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発注者名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Name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97488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受注者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Supplier Name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167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676520"/>
            <a:ext cx="1752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品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Description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1676520"/>
            <a:ext cx="1752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数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Quantity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1676520"/>
            <a:ext cx="1752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単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Price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167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167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1676520"/>
            <a:ext cx="1752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金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Amoun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167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1676520"/>
            <a:ext cx="1752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備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Remarks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3809880"/>
            <a:ext cx="27432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209680"/>
            <a:ext cx="8686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590920"/>
            <a:ext cx="8686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2971800"/>
            <a:ext cx="8686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676520"/>
            <a:ext cx="868680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3809880"/>
            <a:ext cx="1981080" cy="381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380988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合計金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Total Amoun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974880"/>
            <a:ext cx="243828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279440"/>
            <a:ext cx="2057400" cy="304920"/>
          </a:xfrm>
          <a:prstGeom prst="rect">
            <a:avLst/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1279440"/>
            <a:ext cx="24382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27944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納入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部門等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48006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4800600"/>
            <a:ext cx="44197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51055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5105520"/>
            <a:ext cx="152388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48006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発注者住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郵便番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51055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51055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7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ＭＳ Ｐゴシック"/>
              </a:rPr>
              <a:t>自治体サンプル（案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54100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5410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氏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5410080"/>
            <a:ext cx="44197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53280" y="5470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3809880"/>
            <a:ext cx="243828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3809880"/>
            <a:ext cx="1676520" cy="381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3809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合計消費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57913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57913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57913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43800" y="57913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0958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60958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60958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60958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64008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64008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64008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64008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57913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57913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7913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60958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60958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48006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48006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51055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51055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54100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54100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64008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64008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48006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51055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54100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57913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60958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⑤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64008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57913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0958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4008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6095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6400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800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合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48006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合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51055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5410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課コー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5791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決定区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5791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A B C D E F G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6095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年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640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伝票番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640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査定区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791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途説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64008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A B C 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5791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物品検査年月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60958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物品氏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物品氏名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53280" y="640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00600" y="1295280"/>
            <a:ext cx="1066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990720"/>
            <a:ext cx="1066680" cy="304560"/>
          </a:xfrm>
          <a:prstGeom prst="rect">
            <a:avLst/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76920" y="9907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消費税区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4343400"/>
            <a:ext cx="861048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44197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銀行名：　　　　　　　　　　　　　　支店名：　　　　　　　　　　種別：　　　　　　口座番号：　　　　　　　　　　口座名義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4419720"/>
            <a:ext cx="883944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28600" y="7621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8077320" y="84240"/>
          <a:ext cx="68580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84240"/>
                    <a:ext cx="6858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724280" y="3049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国連ＣＥＦＡＣＴ／ＳＩＰＳ準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1676520"/>
            <a:ext cx="86868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1676520"/>
            <a:ext cx="8686800" cy="544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974880"/>
            <a:ext cx="2057400" cy="304560"/>
          </a:xfrm>
          <a:prstGeom prst="rect">
            <a:avLst/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1127160"/>
            <a:ext cx="31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請求番号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(Invoice No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19920" y="89856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請求日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Date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19920" y="135576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発注者名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Name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97488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受注者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Supplier Name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09680" y="167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676520"/>
            <a:ext cx="1752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品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Description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09680" y="1676520"/>
            <a:ext cx="1752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数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Quantity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1676520"/>
            <a:ext cx="1752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単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Price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29000" y="167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7120" y="167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4280" y="1676520"/>
            <a:ext cx="1752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金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Amoun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167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1676520"/>
            <a:ext cx="1752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備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Remarks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3809880"/>
            <a:ext cx="27432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2209680"/>
            <a:ext cx="8686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2590920"/>
            <a:ext cx="8686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2971800"/>
            <a:ext cx="8686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1676520"/>
            <a:ext cx="868680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3809880"/>
            <a:ext cx="1981080" cy="381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380988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合計金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Total Amoun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974880"/>
            <a:ext cx="243828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1279440"/>
            <a:ext cx="2057400" cy="304920"/>
          </a:xfrm>
          <a:prstGeom prst="rect">
            <a:avLst/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1279440"/>
            <a:ext cx="24382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7944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納入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部門等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48006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4800600"/>
            <a:ext cx="44197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51055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5105520"/>
            <a:ext cx="152388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29000" y="48006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発注者住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郵便番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51055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43800" y="51055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2940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電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4100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29000" y="5410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氏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5410080"/>
            <a:ext cx="44197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53280" y="5470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3809880"/>
            <a:ext cx="243828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3809880"/>
            <a:ext cx="1676520" cy="381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809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合計消費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57913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57913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5880" y="57913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43800" y="57913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60958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60958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5880" y="60958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543800" y="60958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64008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64008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64008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43800" y="64008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57913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280" y="57913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0200" y="57913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2280" y="60958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60958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48006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48006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80" y="5105520"/>
            <a:ext cx="1447920" cy="304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00200" y="5105520"/>
            <a:ext cx="1447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541008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541008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2280" y="6400800"/>
            <a:ext cx="1447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6400800"/>
            <a:ext cx="1447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48006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280" y="51055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280" y="54100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2280" y="57913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2280" y="60958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⑤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280" y="64008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57913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60958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24080" y="64008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5880" y="6095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5880" y="6400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4800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合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48006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合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43200" y="51055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5410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課コー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5791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決定区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76520" y="5791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A B C D E F G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6095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年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640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伝票番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5320" y="640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査定区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5320" y="5791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途説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64008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A B C 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24480" y="5791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物品検査年月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324480" y="60958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物品氏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0080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物品氏名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153280" y="640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1295280"/>
            <a:ext cx="1066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00600" y="990720"/>
            <a:ext cx="1066680" cy="304560"/>
          </a:xfrm>
          <a:prstGeom prst="rect">
            <a:avLst/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76920" y="9907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消費税区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4343400"/>
            <a:ext cx="861048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44197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銀行名：　　　　　　　　　　　　　　支店名：　　　　　　　　　　種別：　　　　　　口座番号：　　　　　　　　　　口座名義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2280" y="4419720"/>
            <a:ext cx="883944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2120" y="182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請求書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Invoice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895480" y="7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ＭＳ Ｐゴシック"/>
              </a:rPr>
              <a:t>自治体サンプル（案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8:46:41Z</dcterms:created>
  <dc:creator>kk</dc:creator>
  <dc:description/>
  <dc:language>en-US</dc:language>
  <cp:lastModifiedBy>kk</cp:lastModifiedBy>
  <dcterms:modified xsi:type="dcterms:W3CDTF">2012-11-08T07:45:44Z</dcterms:modified>
  <cp:revision>16</cp:revision>
  <dc:subject/>
  <dc:title>PowerPoint プレゼンテーション</dc:title>
</cp:coreProperties>
</file>