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7C34-2423-40C9-80FA-AF18DA83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B840-FD58-4134-BDEF-8F2362BD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DA9C-161D-41CF-BECF-042C800C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60FC-2800-4611-85E7-8AAA9A4E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8AE9-58C4-41EC-AC3E-CD2FD689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42AD-F97B-4679-BD84-A64AB5F6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F93C-68F7-4A27-9F98-CCA49957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CBB0-E3C3-485B-B50D-99D8AB21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2C8F-4E12-4C7C-B702-612E044D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A25F-A4C6-46F7-91B6-E618970E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886-7622-4687-A5A9-E9FFB318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44BD-5238-4973-9BF5-D52453E7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6524-72ED-443A-9D92-435C234C487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7621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ＪＥＤＩＣ業界横断ＥＤＩ仕様情報項目（中小企業）の進め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43200" y="48006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４業界横断項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中小企業用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1752480"/>
            <a:ext cx="106668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2133720"/>
            <a:ext cx="5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石化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2057400"/>
            <a:ext cx="53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中小企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1981080"/>
            <a:ext cx="304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ＪＥＩＴ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2057400"/>
            <a:ext cx="380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ＪＡＭ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752480"/>
            <a:ext cx="106668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106704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1752480"/>
            <a:ext cx="106668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24480" y="1752480"/>
            <a:ext cx="106704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4572000"/>
            <a:ext cx="7621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1981080"/>
            <a:ext cx="30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Ｘ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業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3581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581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3581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10080" y="3581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4572000"/>
            <a:ext cx="304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Ｘ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業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3581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4343400"/>
            <a:ext cx="556272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343400"/>
            <a:ext cx="990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724280"/>
            <a:ext cx="380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中小企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77320" y="4660920"/>
            <a:ext cx="38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発注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4419720"/>
            <a:ext cx="38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受注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772400" y="4343400"/>
            <a:ext cx="990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51814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51055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152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＜参考資料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858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国際／業界横断ＥＤＩ仕様情報項目（中小企業）の基本構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523880"/>
            <a:ext cx="228600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2057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基本情報項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2057400"/>
            <a:ext cx="53316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2438280"/>
            <a:ext cx="53352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2819520"/>
            <a:ext cx="53352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3352680"/>
            <a:ext cx="53316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81280" y="227340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石化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固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259380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中小企業固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2819520"/>
            <a:ext cx="304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ＪＥＩＴＡ固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3429000"/>
            <a:ext cx="381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ＪＡＭＡ固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3809880"/>
            <a:ext cx="53352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53352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3657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4038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4419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49528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5410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60958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31240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396252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自治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固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4343400"/>
            <a:ext cx="533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業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固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5334120"/>
            <a:ext cx="18288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59119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（中小企業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5638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受注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1219320"/>
            <a:ext cx="18288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17524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1644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発注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1752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1752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1752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1752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1752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0" y="22096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4724280"/>
            <a:ext cx="53316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24382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4800600"/>
            <a:ext cx="533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業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固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52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＜参考資料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858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自治体情報項目（中小企業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1523880"/>
            <a:ext cx="2286000" cy="16002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2057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基本情報項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05320" y="2057400"/>
            <a:ext cx="53316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2438280"/>
            <a:ext cx="53352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2819520"/>
            <a:ext cx="53352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3352680"/>
            <a:ext cx="53316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227340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石化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固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259380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中小企業固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2819520"/>
            <a:ext cx="304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ＪＥＩＴＡ固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3429000"/>
            <a:ext cx="381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ＪＡＭＡ固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809880"/>
            <a:ext cx="533520" cy="16002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72200" y="4267080"/>
            <a:ext cx="53352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3657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4038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419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49528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5410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60958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31240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396252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自治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固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4343400"/>
            <a:ext cx="533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業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固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5334120"/>
            <a:ext cx="18288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0200" y="59119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（中小企業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5638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受注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72200" y="1219320"/>
            <a:ext cx="18288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17524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3080" y="152388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　発注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（自治体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1752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67080" y="1752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752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752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1752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0800" y="22096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05720" y="4724280"/>
            <a:ext cx="53316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24382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81680" y="4800600"/>
            <a:ext cx="533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業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固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52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＜参考資料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3520" y="7621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自治体情報項目（中小企業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676520"/>
            <a:ext cx="4495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1905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基本情報項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3581280"/>
            <a:ext cx="3581280" cy="8384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4419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3733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自治体固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5105520"/>
            <a:ext cx="18288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56833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（中小企業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54100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受注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1447920"/>
            <a:ext cx="18288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1981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2666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52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＜参考資料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2514600"/>
            <a:ext cx="4495680" cy="190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4419720"/>
            <a:ext cx="358128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4495680"/>
            <a:ext cx="533520" cy="1371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4572000"/>
            <a:ext cx="380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公共工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1320" y="4495680"/>
            <a:ext cx="533160" cy="1371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4572000"/>
            <a:ext cx="381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学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関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00800" y="4495680"/>
            <a:ext cx="533520" cy="1371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4495680"/>
            <a:ext cx="533520" cy="1371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4495680"/>
            <a:ext cx="533160" cy="1371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7120" y="4572000"/>
            <a:ext cx="380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ＸＸＸ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4572000"/>
            <a:ext cx="380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ＸＸＸ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96080" y="4572000"/>
            <a:ext cx="381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ＸＸＸ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175248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　発注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（自治体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5638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32767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一般消耗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2819520"/>
            <a:ext cx="3505320" cy="129528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01:46:03Z</dcterms:created>
  <dc:creator>kk</dc:creator>
  <dc:description/>
  <dc:language>en-US</dc:language>
  <cp:lastModifiedBy>kk</cp:lastModifiedBy>
  <dcterms:modified xsi:type="dcterms:W3CDTF">2012-10-04T09:36:05Z</dcterms:modified>
  <cp:revision>14</cp:revision>
  <dc:subject/>
  <dc:title>PowerPoint プレゼンテーション</dc:title>
</cp:coreProperties>
</file>